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png" ContentType="image/png"/>
  <Override PartName="/ppt/media/image16.png" ContentType="image/png"/>
  <Override PartName="/ppt/media/image5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4FE2-8584-494F-8242-4A66687B9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90800"/>
            <a:ext cx="849600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F04C-BCBC-482B-AF55-0C2BECE0B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908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908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23B5-9EAD-4CAB-8230-76AD735BA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7650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7650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908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908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908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6BE7-C91A-4E2F-9F4A-6CC831432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64388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24000" y="37908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DDC9-094C-46D7-A0C6-4E9BD125A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7480" y="37908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4000" y="3790800"/>
            <a:ext cx="849600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4000" y="3790800"/>
            <a:ext cx="849600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4000" y="37908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7480" y="37908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96800" y="7650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9600" y="7650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4000" y="37908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96800" y="37908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9600" y="3790800"/>
            <a:ext cx="273564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BC3D-DB80-414D-8F3A-CFC6265A2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6459-5C65-44E4-A2F0-5E4BFCF5A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4DEC-D410-40B6-BFF6-5EE7C3E2F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64388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42EA-72FE-436A-85CC-0B60E87B6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908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0917-762A-47C0-8C39-E80F95976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908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4DC1-4F27-42A7-A352-F53737E09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22320"/>
            <a:ext cx="7643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765000"/>
            <a:ext cx="414576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90800"/>
            <a:ext cx="8496000" cy="27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8507-6E4A-4CAA-B352-3481DA4C3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rot="5400000">
            <a:off x="3740040" y="-3740040"/>
            <a:ext cx="476280" cy="7956720"/>
          </a:xfrm>
          <a:custGeom>
            <a:avLst/>
            <a:gdLst>
              <a:gd name="textAreaLeft" fmla="*/ 0 w 476280"/>
              <a:gd name="textAreaRight" fmla="*/ 476640 w 476280"/>
              <a:gd name="textAreaTop" fmla="*/ 0 h 7956720"/>
              <a:gd name="textAreaBottom" fmla="*/ 7957080 h 795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99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732720" y="6563880"/>
            <a:ext cx="21333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990000"/>
                </a:solidFill>
                <a:latin typeface="HY헤드라인M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CFE5-85A6-4792-82DC-C56D6C2913B2}" type="slidenum">
              <a:rPr b="0" lang="ko-KR" sz="1200" spc="-1" strike="noStrike">
                <a:solidFill>
                  <a:srgbClr val="990000"/>
                </a:solidFill>
                <a:latin typeface="HY헤드라인M"/>
                <a:ea typeface="HY헤드라인M"/>
              </a:rPr>
              <a:t>&lt;number&gt;</a:t>
            </a:fld>
            <a:r>
              <a:rPr b="0" lang="ko-KR" sz="1200" spc="-1" strike="noStrike">
                <a:solidFill>
                  <a:srgbClr val="990000"/>
                </a:solidFill>
                <a:latin typeface="HY헤드라인M"/>
                <a:ea typeface="HY헤드라인M"/>
              </a:rPr>
              <a:t>/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SzPct val="7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hyperlink" Target="http://www.google.com/patents?id=y_12AAAAEBAJ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www.google.com/patents?id=lrCcAAAAEBAJ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hyperlink" Target="http://www.google.com/patents?id=dfihAAAAEBAJ" TargetMode="External"/><Relationship Id="rId12" Type="http://schemas.openxmlformats.org/officeDocument/2006/relationships/hyperlink" Target="http://www.google.com/patents?id=dfihAAAAEBAJ" TargetMode="External"/><Relationship Id="rId13" Type="http://schemas.openxmlformats.org/officeDocument/2006/relationships/hyperlink" Target="http://www.google.com/patents?id=dfihAAAAEBAJ" TargetMode="External"/><Relationship Id="rId14" Type="http://schemas.openxmlformats.org/officeDocument/2006/relationships/hyperlink" Target="http://www.google.com/patents?id=dfihAAAAEBAJ" TargetMode="External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hyperlink" Target="http://www.google.com/patents?id=-G6EAAAAEBAJ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www.google.com/patents?id=y_12AAAAEBAJ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hyperlink" Target="http://www.google.com/patents?id=dfihAAAAEBAJ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2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hyperlink" Target="http://www.linux-mtd.infradead.org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File system support on Multi Level Cell (MLC) flash in open source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pril 17, 2008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yungmin Par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ftware Laborato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amsung Electronic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Paired Page Problem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pages are coupled in MLC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en program operation is abnormally aborted (ex. power-down, reset), not only page data under program but also paired page data may be damaged even though it was written correctly at previous tim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t’s dependent on each manufacturer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.g., The 4 pages distan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ach pages have the distance of 4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16400" y="4365720"/>
            <a:ext cx="2235240" cy="1231920"/>
            <a:chOff x="3416400" y="4365720"/>
            <a:chExt cx="2235240" cy="1231920"/>
          </a:xfrm>
        </p:grpSpPr>
        <p:sp>
          <p:nvSpPr>
            <p:cNvPr id="149" name=""/>
            <p:cNvSpPr/>
            <p:nvPr/>
          </p:nvSpPr>
          <p:spPr>
            <a:xfrm>
              <a:off x="3416400" y="5023080"/>
              <a:ext cx="217440" cy="57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03680" y="5023080"/>
              <a:ext cx="217440" cy="57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90960" y="5023080"/>
              <a:ext cx="217440" cy="57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78240" y="5023080"/>
              <a:ext cx="217800" cy="57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65880" y="5023080"/>
              <a:ext cx="217440" cy="57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53160" y="5023080"/>
              <a:ext cx="217440" cy="57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40440" y="5023080"/>
              <a:ext cx="217440" cy="57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56" name=""/>
            <p:cNvCxnSpPr>
              <a:stCxn id="150" idx="0"/>
              <a:endCxn id="154" idx="0"/>
            </p:cNvCxnSpPr>
            <p:nvPr/>
          </p:nvCxnSpPr>
          <p:spPr>
            <a:xfrm flipH="1" rot="16200000">
              <a:off x="4386960" y="4439520"/>
              <a:ext cx="2160" cy="1150200"/>
            </a:xfrm>
            <a:prstGeom prst="bentConnector3">
              <a:avLst>
                <a:gd name="adj1" fmla="val -19100000"/>
              </a:avLst>
            </a:prstGeom>
            <a:ln w="1908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434200" y="5023080"/>
              <a:ext cx="217440" cy="57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3460800">
              <a:off x="4928040" y="4698720"/>
              <a:ext cx="433440" cy="647640"/>
            </a:xfrm>
            <a:prstGeom prst="lightningBolt">
              <a:avLst/>
            </a:prstGeom>
            <a:solidFill>
              <a:srgbClr val="ff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3460800">
              <a:off x="3742200" y="4700160"/>
              <a:ext cx="433440" cy="647640"/>
            </a:xfrm>
            <a:prstGeom prst="lightningBolt">
              <a:avLst/>
            </a:prstGeom>
            <a:solidFill>
              <a:srgbClr val="33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4760" y="4365720"/>
              <a:ext cx="115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Paired page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24000" y="5932440"/>
            <a:ext cx="6048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From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ea typeface="휴먼매직체"/>
                <a:hlinkClick r:id="rId6"/>
              </a:rPr>
              <a:t>http://www.google.com/patents?id=y_12AAAAEBAJ</a:t>
            </a: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 (M-System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53F1-5F77-4853-B9E6-6102F88AB9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tate Transition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ne dire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rogram: Level 0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…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Level 3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rase: Level 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Level 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5932440"/>
            <a:ext cx="6048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From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ea typeface="휴먼매직체"/>
                <a:hlinkClick r:id="rId4"/>
              </a:rPr>
              <a:t>http://www.google.com/patents?id=lrCcAAAAEBAJ</a:t>
            </a: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 (Intel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116000" y="1924200"/>
            <a:ext cx="6512040" cy="3592440"/>
            <a:chOff x="1116000" y="1924200"/>
            <a:chExt cx="6512040" cy="3592440"/>
          </a:xfrm>
        </p:grpSpPr>
        <p:sp>
          <p:nvSpPr>
            <p:cNvPr id="166" name=""/>
            <p:cNvSpPr/>
            <p:nvPr/>
          </p:nvSpPr>
          <p:spPr>
            <a:xfrm>
              <a:off x="3708360" y="3364200"/>
              <a:ext cx="21744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08360" y="4803840"/>
              <a:ext cx="21744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67280" y="4803840"/>
              <a:ext cx="21744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67280" y="4083120"/>
              <a:ext cx="21744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67280" y="3364200"/>
              <a:ext cx="21744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5"/>
            <a:stretch/>
          </p:blipFill>
          <p:spPr>
            <a:xfrm>
              <a:off x="1116000" y="1924200"/>
              <a:ext cx="6512040" cy="35924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72" name=""/>
            <p:cNvCxnSpPr>
              <a:stCxn id="170" idx="3"/>
              <a:endCxn id="169" idx="3"/>
            </p:cNvCxnSpPr>
            <p:nvPr/>
          </p:nvCxnSpPr>
          <p:spPr>
            <a:xfrm>
              <a:off x="4293720" y="3544920"/>
              <a:ext cx="2520" cy="720000"/>
            </a:xfrm>
            <a:prstGeom prst="curvedConnector5">
              <a:avLst>
                <a:gd name="adj1" fmla="val 13700000"/>
                <a:gd name="adj2" fmla="val 49974"/>
                <a:gd name="adj3" fmla="val 13700000"/>
              </a:avLst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73" name=""/>
            <p:cNvSpPr/>
            <p:nvPr/>
          </p:nvSpPr>
          <p:spPr>
            <a:xfrm rot="21376800">
              <a:off x="2916360" y="3651480"/>
              <a:ext cx="433440" cy="647640"/>
            </a:xfrm>
            <a:prstGeom prst="lightningBolt">
              <a:avLst/>
            </a:prstGeom>
            <a:solidFill>
              <a:srgbClr val="ff00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74" name=""/>
            <p:cNvCxnSpPr>
              <a:stCxn id="166" idx="1"/>
              <a:endCxn id="167" idx="1"/>
            </p:cNvCxnSpPr>
            <p:nvPr/>
          </p:nvCxnSpPr>
          <p:spPr>
            <a:xfrm flipH="1" flipV="1" rot="10800000">
              <a:off x="3698640" y="3544920"/>
              <a:ext cx="2160" cy="144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cap="rnd" w="1908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F548-CBE8-437B-BC86-EAD7ECE8D6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Patent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There are a lot of paten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Similar with FTL situati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Skip Writ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Skip the affected pages and write the safe pag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LSB backup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Backup LSB page to log or other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SLC-like writ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Regard some MLC pages as SLC by using LSB or MSB onl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Single level cell programming in a multiple level cell non-volatile memory devic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 u="sng">
                <a:solidFill>
                  <a:srgbClr val="009999"/>
                </a:solidFill>
                <a:uFillTx/>
                <a:latin typeface="Trebuchet MS"/>
                <a:hlinkClick r:id="rId11"/>
              </a:rPr>
              <a:t>http://</a:t>
            </a:r>
            <a:r>
              <a:rPr b="0" lang="ko-KR" sz="1400" spc="-1" strike="noStrike" u="sng">
                <a:solidFill>
                  <a:srgbClr val="009999"/>
                </a:solidFill>
                <a:uFillTx/>
                <a:latin typeface="Trebuchet MS"/>
                <a:hlinkClick r:id="rId12"/>
              </a:rPr>
              <a:t>www.google.com/patents?id</a:t>
            </a:r>
            <a:r>
              <a:rPr b="0" lang="ko-KR" sz="1400" spc="-1" strike="noStrike" u="sng">
                <a:solidFill>
                  <a:srgbClr val="009999"/>
                </a:solidFill>
                <a:uFillTx/>
                <a:latin typeface="Trebuchet MS"/>
                <a:hlinkClick r:id="rId13"/>
              </a:rPr>
              <a:t>=</a:t>
            </a:r>
            <a:r>
              <a:rPr b="0" lang="ko-KR" sz="1400" spc="-1" strike="noStrike" u="sng">
                <a:solidFill>
                  <a:srgbClr val="009999"/>
                </a:solidFill>
                <a:uFillTx/>
                <a:latin typeface="Trebuchet MS"/>
                <a:hlinkClick r:id="rId14"/>
              </a:rPr>
              <a:t>dfihAAAAEBAJ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More and mor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2E9C-5DF6-461E-993A-C84ACE99B5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LSB backup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ackup or copy LSB page to safe place such as lo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106800" y="1486080"/>
            <a:ext cx="3120840" cy="424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4000" y="5932440"/>
            <a:ext cx="6048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From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ea typeface="휴먼매직체"/>
                <a:hlinkClick r:id="rId3"/>
              </a:rPr>
              <a:t>http://www.google.com/patents?id=-G6EAAAAEBAJ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휴먼매직체"/>
              </a:rPr>
              <a:t> (SanDisk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203640" y="4437000"/>
            <a:ext cx="2736720" cy="720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D243-75FA-417B-9AF9-1C3C4780B0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780000" y="2062080"/>
            <a:ext cx="28728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3141720"/>
            <a:ext cx="287280" cy="35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LSB backup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6560" y="1700280"/>
            <a:ext cx="7705800" cy="3717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5932440"/>
            <a:ext cx="6048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From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ea typeface="휴먼매직체"/>
                <a:hlinkClick r:id="rId2"/>
              </a:rPr>
              <a:t>http://www.google.com/patents?id=y_12AAAAEBAJ</a:t>
            </a: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 (M-Systems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8" name=""/>
          <p:cNvCxnSpPr>
            <a:stCxn id="183" idx="3"/>
            <a:endCxn id="182" idx="3"/>
          </p:cNvCxnSpPr>
          <p:nvPr/>
        </p:nvCxnSpPr>
        <p:spPr>
          <a:xfrm flipV="1">
            <a:off x="4076280" y="2241360"/>
            <a:ext cx="2520" cy="1080000"/>
          </a:xfrm>
          <a:prstGeom prst="bentConnector3">
            <a:avLst>
              <a:gd name="adj1" fmla="val 26300000"/>
            </a:avLst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B3DE-8F56-4E3F-BC88-D1118EC207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LC-like write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gard some area as SLC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2314800" cy="4821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4000" y="5932440"/>
            <a:ext cx="6048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휴먼매직체"/>
              </a:rPr>
              <a:t>From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ea typeface="휴먼매직체"/>
                <a:hlinkClick r:id="rId3"/>
              </a:rPr>
              <a:t>http://www.google.com/patents?id=dfihAAAAEBAJ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휴먼매직체"/>
              </a:rPr>
              <a:t> (Micr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216320" y="1989000"/>
            <a:ext cx="3884760" cy="304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F01A-8102-426E-8E2D-047D826A9E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-bit MLC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t’s more complicat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.g., 3-bit MLC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S2006/0215450, 2006, Toshib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050920" y="2576520"/>
            <a:ext cx="4537080" cy="308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A294-7E6C-4FED-9917-8421FD5A8A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-bit MLC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f the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page is abnormally  aborted, the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and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rebuchet MS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will be damage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900000" y="2852640"/>
            <a:ext cx="7597800" cy="1830240"/>
            <a:chOff x="900000" y="2852640"/>
            <a:chExt cx="7597800" cy="1830240"/>
          </a:xfrm>
        </p:grpSpPr>
        <p:sp>
          <p:nvSpPr>
            <p:cNvPr id="200" name=""/>
            <p:cNvSpPr/>
            <p:nvPr/>
          </p:nvSpPr>
          <p:spPr>
            <a:xfrm>
              <a:off x="900000" y="3654360"/>
              <a:ext cx="289080" cy="5032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87280" y="3654360"/>
              <a:ext cx="289080" cy="5032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76360" y="3654360"/>
              <a:ext cx="289080" cy="5032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65440" y="3654360"/>
              <a:ext cx="288720" cy="5032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4160" y="3654360"/>
              <a:ext cx="289080" cy="503280"/>
            </a:xfrm>
            <a:prstGeom prst="rect">
              <a:avLst/>
            </a:prstGeom>
            <a:solidFill>
              <a:srgbClr val="33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43240" y="3654360"/>
              <a:ext cx="288720" cy="503280"/>
            </a:xfrm>
            <a:prstGeom prst="rect">
              <a:avLst/>
            </a:prstGeom>
            <a:solidFill>
              <a:srgbClr val="33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31960" y="3654360"/>
              <a:ext cx="289080" cy="503280"/>
            </a:xfrm>
            <a:prstGeom prst="rect">
              <a:avLst/>
            </a:prstGeom>
            <a:solidFill>
              <a:srgbClr val="33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21040" y="3654360"/>
              <a:ext cx="288720" cy="503280"/>
            </a:xfrm>
            <a:prstGeom prst="rect">
              <a:avLst/>
            </a:prstGeom>
            <a:solidFill>
              <a:srgbClr val="33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9760" y="3654360"/>
              <a:ext cx="289080" cy="5032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98840" y="3654360"/>
              <a:ext cx="288720" cy="5032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87560" y="3654360"/>
              <a:ext cx="289080" cy="5032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6640" y="3654360"/>
              <a:ext cx="289080" cy="5032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65720" y="3654360"/>
              <a:ext cx="28872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54440" y="3654360"/>
              <a:ext cx="28908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43520" y="3654360"/>
              <a:ext cx="288720" cy="503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32240" y="3654360"/>
              <a:ext cx="289080" cy="503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21320" y="3654360"/>
              <a:ext cx="288720" cy="503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10040" y="3654360"/>
              <a:ext cx="289080" cy="503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9120" y="3654360"/>
              <a:ext cx="28908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88200" y="3654360"/>
              <a:ext cx="28872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76920" y="3654360"/>
              <a:ext cx="28908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66000" y="3654360"/>
              <a:ext cx="28872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54720" y="3654360"/>
              <a:ext cx="289080" cy="503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23" name=""/>
            <p:cNvCxnSpPr>
              <a:stCxn id="200" idx="2"/>
              <a:endCxn id="204" idx="2"/>
            </p:cNvCxnSpPr>
            <p:nvPr/>
          </p:nvCxnSpPr>
          <p:spPr>
            <a:xfrm flipH="1" rot="16200000">
              <a:off x="1620360" y="3590280"/>
              <a:ext cx="2520" cy="1154880"/>
            </a:xfrm>
            <a:prstGeom prst="bentConnector3">
              <a:avLst>
                <a:gd name="adj1" fmla="val 13700000"/>
              </a:avLst>
            </a:prstGeom>
            <a:ln w="19080">
              <a:solidFill>
                <a:srgbClr val="6600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4" name=""/>
            <p:cNvCxnSpPr>
              <a:stCxn id="201" idx="2"/>
              <a:endCxn id="205" idx="2"/>
            </p:cNvCxnSpPr>
            <p:nvPr/>
          </p:nvCxnSpPr>
          <p:spPr>
            <a:xfrm flipH="1" rot="16200000">
              <a:off x="1908720" y="3589560"/>
              <a:ext cx="2520" cy="1156320"/>
            </a:xfrm>
            <a:prstGeom prst="bentConnector3">
              <a:avLst>
                <a:gd name="adj1" fmla="val 23900000"/>
              </a:avLst>
            </a:prstGeom>
            <a:ln w="19080">
              <a:solidFill>
                <a:srgbClr val="9999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5" name=""/>
            <p:cNvCxnSpPr>
              <a:stCxn id="202" idx="0"/>
              <a:endCxn id="206" idx="0"/>
            </p:cNvCxnSpPr>
            <p:nvPr/>
          </p:nvCxnSpPr>
          <p:spPr>
            <a:xfrm flipH="1" rot="16200000">
              <a:off x="2197440" y="3066480"/>
              <a:ext cx="2520" cy="115632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ff993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6" name=""/>
            <p:cNvCxnSpPr>
              <a:stCxn id="203" idx="0"/>
              <a:endCxn id="207" idx="0"/>
            </p:cNvCxnSpPr>
            <p:nvPr/>
          </p:nvCxnSpPr>
          <p:spPr>
            <a:xfrm flipH="1" rot="16200000">
              <a:off x="2486520" y="3066480"/>
              <a:ext cx="2520" cy="1156320"/>
            </a:xfrm>
            <a:prstGeom prst="bentConnector3">
              <a:avLst>
                <a:gd name="adj1" fmla="val -27800000"/>
              </a:avLst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27" name=""/>
            <p:cNvSpPr/>
            <p:nvPr/>
          </p:nvSpPr>
          <p:spPr>
            <a:xfrm>
              <a:off x="7130880" y="2852640"/>
              <a:ext cx="144720" cy="287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18520" y="286524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Pag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29" name=""/>
            <p:cNvCxnSpPr/>
            <p:nvPr/>
          </p:nvCxnSpPr>
          <p:spPr>
            <a:xfrm flipH="1" rot="16200000">
              <a:off x="7201440" y="3067200"/>
              <a:ext cx="2520" cy="289440"/>
            </a:xfrm>
            <a:prstGeom prst="bentConnector3">
              <a:avLst>
                <a:gd name="adj1" fmla="val 13700000"/>
              </a:avLst>
            </a:prstGeom>
            <a:ln w="19080">
              <a:solidFill>
                <a:srgbClr val="3399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0" name=""/>
            <p:cNvCxnSpPr>
              <a:stCxn id="208" idx="2"/>
              <a:endCxn id="204" idx="2"/>
            </p:cNvCxnSpPr>
            <p:nvPr/>
          </p:nvCxnSpPr>
          <p:spPr>
            <a:xfrm rot="5400000">
              <a:off x="2774880" y="3589560"/>
              <a:ext cx="2520" cy="1156680"/>
            </a:xfrm>
            <a:prstGeom prst="bentConnector3">
              <a:avLst>
                <a:gd name="adj1" fmla="val 13700000"/>
              </a:avLst>
            </a:prstGeom>
            <a:ln w="19080">
              <a:solidFill>
                <a:srgbClr val="6600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1" name=""/>
            <p:cNvCxnSpPr>
              <a:stCxn id="205" idx="2"/>
              <a:endCxn id="209" idx="2"/>
            </p:cNvCxnSpPr>
            <p:nvPr/>
          </p:nvCxnSpPr>
          <p:spPr>
            <a:xfrm flipH="1" rot="16200000">
              <a:off x="3064320" y="3589560"/>
              <a:ext cx="2520" cy="1156320"/>
            </a:xfrm>
            <a:prstGeom prst="bentConnector3">
              <a:avLst>
                <a:gd name="adj1" fmla="val 23900000"/>
              </a:avLst>
            </a:prstGeom>
            <a:ln w="19080">
              <a:solidFill>
                <a:srgbClr val="9999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2" name=""/>
            <p:cNvCxnSpPr>
              <a:stCxn id="206" idx="0"/>
              <a:endCxn id="210" idx="0"/>
            </p:cNvCxnSpPr>
            <p:nvPr/>
          </p:nvCxnSpPr>
          <p:spPr>
            <a:xfrm flipH="1" rot="16200000">
              <a:off x="3353040" y="3066480"/>
              <a:ext cx="2520" cy="115668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ff9933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3" name=""/>
            <p:cNvCxnSpPr>
              <a:stCxn id="207" idx="0"/>
              <a:endCxn id="211" idx="0"/>
            </p:cNvCxnSpPr>
            <p:nvPr/>
          </p:nvCxnSpPr>
          <p:spPr>
            <a:xfrm flipH="1" rot="16200000">
              <a:off x="3642120" y="3066480"/>
              <a:ext cx="2520" cy="1156320"/>
            </a:xfrm>
            <a:prstGeom prst="bentConnector3">
              <a:avLst>
                <a:gd name="adj1" fmla="val -27800000"/>
              </a:avLst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4" name=""/>
            <p:cNvSpPr/>
            <p:nvPr/>
          </p:nvSpPr>
          <p:spPr>
            <a:xfrm>
              <a:off x="2090520" y="4219560"/>
              <a:ext cx="287640" cy="287280"/>
            </a:xfrm>
            <a:prstGeom prst="irregularSeal2">
              <a:avLst/>
            </a:prstGeom>
            <a:noFill/>
            <a:ln w="1908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54160" y="3068640"/>
              <a:ext cx="287640" cy="287280"/>
            </a:xfrm>
            <a:prstGeom prst="irregularSeal2">
              <a:avLst/>
            </a:prstGeom>
            <a:noFill/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38160" y="4219560"/>
              <a:ext cx="287280" cy="287280"/>
            </a:xfrm>
            <a:prstGeom prst="irregularSeal2">
              <a:avLst/>
            </a:prstGeom>
            <a:noFill/>
            <a:ln w="1908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06880" y="3068640"/>
              <a:ext cx="287280" cy="287280"/>
            </a:xfrm>
            <a:prstGeom prst="irregularSeal2">
              <a:avLst/>
            </a:prstGeom>
            <a:noFill/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01800" y="3068640"/>
              <a:ext cx="287280" cy="287280"/>
            </a:xfrm>
            <a:prstGeom prst="irregularSeal2">
              <a:avLst/>
            </a:prstGeom>
            <a:noFill/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18520" y="315252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휴먼매직체"/>
                </a:rPr>
                <a:t>Paired Pag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CB63-59DD-445B-8F5A-195F8DF03D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onsiderations in JFFS2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w to determine the page distance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pendent on each manufacturer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w to handle paired page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atents, patents, patents,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de management in JFFS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se the nodes as many as possibl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f the paired page is brok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kip the broken page and continue to read remained pag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ow to guarantee the filesystem consistency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UBI lay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bstract the flash properti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andle this layer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CD6A-5E61-4FC0-9978-FFABDB23A0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hip Support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hardware controll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f the chip supports the paired page problem feature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SB recover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Use their own property techniqu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 scan process, if it detects the MSB is broken, it issues the LSB recovery command and copy recovered page not damaged one to other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F370-7A32-4EE7-9074-367F7569D7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ulti Level Chip (MLC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urrent statu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Known Issu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aten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sideration in JFFS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FF4E-2F9B-4997-A935-F8B1ECE3A9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ummary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It’s not easy to determine the page distan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It’s not easy to implement it because of paten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Chip suppor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LSB recover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Where’s the best place to implement in i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Filesystem vs. UBI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Another approach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Use the controlled embedded devi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Embedded MMC (eMMC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8A6C-C398-4F22-8428-2F75E86FF4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Reference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Linux Memory Technology Devic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http://www.linux-mtd.infradead.org/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http://git.infradead.org/?p=mtd-2.6.git;a=summar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YAFF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http://www.yaffs.net/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NAND, OneNA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http://www.samsung.com/global/business/semiconductor/products/flash/Products_NANDFlash.htm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http://www.samsung.com/global/business/semiconductor/products/fusionmemory/Products_OneNAND.htm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C501-4D97-4868-B134-7F3295E997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939080" y="838080"/>
            <a:ext cx="954000" cy="5327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Appendix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The 4 pages distan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rebuchet MS"/>
              </a:rPr>
              <a:t>Patent number</a:t>
            </a: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: 698817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rebuchet MS"/>
              </a:rPr>
              <a:t>Flash memory management method that is resistant to data corruption by power</a:t>
            </a: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http://www.google.com/patents?id=y_12AAAAEBAJ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Single level cell programming in a multiple level cell non-volatile memory devi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http://www.google.com/patents?id=dfihAAAAEBAJ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9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0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5B73-9618-413A-9B71-B05E50A3D5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The End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"/>
          <p:cNvSpPr/>
          <p:nvPr/>
        </p:nvSpPr>
        <p:spPr>
          <a:xfrm>
            <a:off x="3254040" y="2852640"/>
            <a:ext cx="282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ank You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&amp;A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E591-8D3F-4AFA-B812-82063EE4E2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t’s not cov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lash properti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Write/read disturb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ardware issu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ntroller embedded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t’s talking about the MLC software itself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How to use MLC flash directly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What’s the consideration on MLC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45EB-F229-4544-A6D4-1C91A84877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Multi Level Cell (MLC)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pable for low-cost consumer application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edia players, MP3 devices, media cards, and USB flash driv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Gray code is dependent on each manufacturer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835280" y="4665600"/>
            <a:ext cx="4714920" cy="157176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2346480" y="2509920"/>
            <a:ext cx="4070160" cy="1783800"/>
            <a:chOff x="2346480" y="2509920"/>
            <a:chExt cx="4070160" cy="1783800"/>
          </a:xfrm>
        </p:grpSpPr>
        <p:grpSp>
          <p:nvGrpSpPr>
            <p:cNvPr id="90" name=""/>
            <p:cNvGrpSpPr/>
            <p:nvPr/>
          </p:nvGrpSpPr>
          <p:grpSpPr>
            <a:xfrm>
              <a:off x="3527280" y="2775240"/>
              <a:ext cx="525600" cy="1050840"/>
              <a:chOff x="3527280" y="2775240"/>
              <a:chExt cx="525600" cy="1050840"/>
            </a:xfrm>
          </p:grpSpPr>
          <p:sp>
            <p:nvSpPr>
              <p:cNvPr id="91" name=""/>
              <p:cNvSpPr/>
              <p:nvPr/>
            </p:nvSpPr>
            <p:spPr>
              <a:xfrm>
                <a:off x="3527280" y="2775240"/>
                <a:ext cx="263520" cy="1050840"/>
              </a:xfrm>
              <a:custGeom>
                <a:avLst/>
                <a:gdLst/>
                <a:ahLst/>
                <a:rect l="l" t="t" r="r" b="b"/>
                <a:pathLst>
                  <a:path w="166" h="662">
                    <a:moveTo>
                      <a:pt x="0" y="662"/>
                    </a:moveTo>
                    <a:cubicBezTo>
                      <a:pt x="0" y="297"/>
                      <a:pt x="75" y="0"/>
                      <a:pt x="166" y="0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90800" y="2775240"/>
                <a:ext cx="262080" cy="1050840"/>
              </a:xfrm>
              <a:custGeom>
                <a:avLst/>
                <a:gdLst/>
                <a:ahLst/>
                <a:rect l="l" t="t" r="r" b="b"/>
                <a:pathLst>
                  <a:path w="165" h="662">
                    <a:moveTo>
                      <a:pt x="165" y="662"/>
                    </a:moveTo>
                    <a:cubicBezTo>
                      <a:pt x="165" y="297"/>
                      <a:pt x="91" y="0"/>
                      <a:pt x="0" y="0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2478240" y="2775240"/>
              <a:ext cx="525240" cy="1050840"/>
              <a:chOff x="2478240" y="2775240"/>
              <a:chExt cx="525240" cy="1050840"/>
            </a:xfrm>
          </p:grpSpPr>
          <p:sp>
            <p:nvSpPr>
              <p:cNvPr id="94" name=""/>
              <p:cNvSpPr/>
              <p:nvPr/>
            </p:nvSpPr>
            <p:spPr>
              <a:xfrm>
                <a:off x="2478240" y="2775240"/>
                <a:ext cx="261720" cy="1050840"/>
              </a:xfrm>
              <a:custGeom>
                <a:avLst/>
                <a:gdLst/>
                <a:ahLst/>
                <a:rect l="l" t="t" r="r" b="b"/>
                <a:pathLst>
                  <a:path w="165" h="662">
                    <a:moveTo>
                      <a:pt x="0" y="662"/>
                    </a:moveTo>
                    <a:cubicBezTo>
                      <a:pt x="0" y="297"/>
                      <a:pt x="74" y="0"/>
                      <a:pt x="165" y="0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39960" y="2775240"/>
                <a:ext cx="263520" cy="1050840"/>
              </a:xfrm>
              <a:custGeom>
                <a:avLst/>
                <a:gdLst/>
                <a:ahLst/>
                <a:rect l="l" t="t" r="r" b="b"/>
                <a:pathLst>
                  <a:path w="166" h="662">
                    <a:moveTo>
                      <a:pt x="166" y="662"/>
                    </a:moveTo>
                    <a:cubicBezTo>
                      <a:pt x="166" y="297"/>
                      <a:pt x="91" y="0"/>
                      <a:pt x="0" y="0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4578480" y="2775240"/>
              <a:ext cx="263520" cy="1050840"/>
            </a:xfrm>
            <a:custGeom>
              <a:avLst/>
              <a:gdLst/>
              <a:ahLst/>
              <a:rect l="l" t="t" r="r" b="b"/>
              <a:pathLst>
                <a:path w="166" h="662">
                  <a:moveTo>
                    <a:pt x="0" y="662"/>
                  </a:moveTo>
                  <a:cubicBezTo>
                    <a:pt x="0" y="297"/>
                    <a:pt x="74" y="0"/>
                    <a:pt x="166" y="0"/>
                  </a:cubicBez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42000" y="2775240"/>
              <a:ext cx="261720" cy="1050840"/>
            </a:xfrm>
            <a:custGeom>
              <a:avLst/>
              <a:gdLst/>
              <a:ahLst/>
              <a:rect l="l" t="t" r="r" b="b"/>
              <a:pathLst>
                <a:path w="165" h="662">
                  <a:moveTo>
                    <a:pt x="165" y="662"/>
                  </a:moveTo>
                  <a:cubicBezTo>
                    <a:pt x="165" y="297"/>
                    <a:pt x="91" y="0"/>
                    <a:pt x="0" y="0"/>
                  </a:cubicBez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29320" y="2775240"/>
              <a:ext cx="263520" cy="1050840"/>
            </a:xfrm>
            <a:custGeom>
              <a:avLst/>
              <a:gdLst/>
              <a:ahLst/>
              <a:rect l="l" t="t" r="r" b="b"/>
              <a:pathLst>
                <a:path w="166" h="662">
                  <a:moveTo>
                    <a:pt x="0" y="662"/>
                  </a:moveTo>
                  <a:cubicBezTo>
                    <a:pt x="0" y="297"/>
                    <a:pt x="74" y="0"/>
                    <a:pt x="166" y="0"/>
                  </a:cubicBez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92840" y="2775240"/>
              <a:ext cx="261720" cy="1050840"/>
            </a:xfrm>
            <a:custGeom>
              <a:avLst/>
              <a:gdLst/>
              <a:ahLst/>
              <a:rect l="l" t="t" r="r" b="b"/>
              <a:pathLst>
                <a:path w="165" h="662">
                  <a:moveTo>
                    <a:pt x="165" y="662"/>
                  </a:moveTo>
                  <a:cubicBezTo>
                    <a:pt x="165" y="297"/>
                    <a:pt x="91" y="0"/>
                    <a:pt x="0" y="0"/>
                  </a:cubicBez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46480" y="3826080"/>
              <a:ext cx="4070160" cy="1440"/>
            </a:xfrm>
            <a:prstGeom prst="line">
              <a:avLst/>
            </a:prstGeom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62320" y="2509920"/>
              <a:ext cx="6480" cy="1555920"/>
            </a:xfrm>
            <a:custGeom>
              <a:avLst/>
              <a:gdLst/>
              <a:ahLst/>
              <a:rect l="l" t="t" r="r" b="b"/>
              <a:pathLst>
                <a:path w="16" h="3584">
                  <a:moveTo>
                    <a:pt x="16" y="8"/>
                  </a:moveTo>
                  <a:lnTo>
                    <a:pt x="16" y="120"/>
                  </a:lnTo>
                  <a:cubicBezTo>
                    <a:pt x="16" y="124"/>
                    <a:pt x="13" y="128"/>
                    <a:pt x="8" y="128"/>
                  </a:cubicBezTo>
                  <a:cubicBezTo>
                    <a:pt x="4" y="128"/>
                    <a:pt x="0" y="124"/>
                    <a:pt x="0" y="120"/>
                  </a:cubicBezTo>
                  <a:lnTo>
                    <a:pt x="0" y="8"/>
                  </a:lnTo>
                  <a:cubicBezTo>
                    <a:pt x="0" y="3"/>
                    <a:pt x="4" y="0"/>
                    <a:pt x="8" y="0"/>
                  </a:cubicBezTo>
                  <a:cubicBezTo>
                    <a:pt x="13" y="0"/>
                    <a:pt x="16" y="3"/>
                    <a:pt x="16" y="8"/>
                  </a:cubicBezTo>
                  <a:close/>
                  <a:moveTo>
                    <a:pt x="16" y="200"/>
                  </a:moveTo>
                  <a:lnTo>
                    <a:pt x="16" y="312"/>
                  </a:lnTo>
                  <a:cubicBezTo>
                    <a:pt x="16" y="316"/>
                    <a:pt x="13" y="320"/>
                    <a:pt x="8" y="320"/>
                  </a:cubicBezTo>
                  <a:cubicBezTo>
                    <a:pt x="4" y="320"/>
                    <a:pt x="0" y="316"/>
                    <a:pt x="0" y="312"/>
                  </a:cubicBezTo>
                  <a:lnTo>
                    <a:pt x="0" y="200"/>
                  </a:lnTo>
                  <a:cubicBezTo>
                    <a:pt x="0" y="195"/>
                    <a:pt x="4" y="192"/>
                    <a:pt x="8" y="192"/>
                  </a:cubicBezTo>
                  <a:cubicBezTo>
                    <a:pt x="13" y="192"/>
                    <a:pt x="16" y="195"/>
                    <a:pt x="16" y="200"/>
                  </a:cubicBezTo>
                  <a:close/>
                  <a:moveTo>
                    <a:pt x="16" y="392"/>
                  </a:moveTo>
                  <a:lnTo>
                    <a:pt x="16" y="504"/>
                  </a:lnTo>
                  <a:cubicBezTo>
                    <a:pt x="16" y="508"/>
                    <a:pt x="13" y="512"/>
                    <a:pt x="8" y="512"/>
                  </a:cubicBezTo>
                  <a:cubicBezTo>
                    <a:pt x="4" y="512"/>
                    <a:pt x="0" y="508"/>
                    <a:pt x="0" y="504"/>
                  </a:cubicBezTo>
                  <a:lnTo>
                    <a:pt x="0" y="392"/>
                  </a:lnTo>
                  <a:cubicBezTo>
                    <a:pt x="0" y="387"/>
                    <a:pt x="4" y="384"/>
                    <a:pt x="8" y="384"/>
                  </a:cubicBezTo>
                  <a:cubicBezTo>
                    <a:pt x="13" y="384"/>
                    <a:pt x="16" y="387"/>
                    <a:pt x="16" y="392"/>
                  </a:cubicBezTo>
                  <a:close/>
                  <a:moveTo>
                    <a:pt x="16" y="584"/>
                  </a:moveTo>
                  <a:lnTo>
                    <a:pt x="16" y="696"/>
                  </a:lnTo>
                  <a:cubicBezTo>
                    <a:pt x="16" y="700"/>
                    <a:pt x="13" y="704"/>
                    <a:pt x="8" y="704"/>
                  </a:cubicBezTo>
                  <a:cubicBezTo>
                    <a:pt x="4" y="704"/>
                    <a:pt x="0" y="700"/>
                    <a:pt x="0" y="696"/>
                  </a:cubicBezTo>
                  <a:lnTo>
                    <a:pt x="0" y="584"/>
                  </a:lnTo>
                  <a:cubicBezTo>
                    <a:pt x="0" y="579"/>
                    <a:pt x="4" y="576"/>
                    <a:pt x="8" y="576"/>
                  </a:cubicBezTo>
                  <a:cubicBezTo>
                    <a:pt x="13" y="576"/>
                    <a:pt x="16" y="579"/>
                    <a:pt x="16" y="584"/>
                  </a:cubicBezTo>
                  <a:close/>
                  <a:moveTo>
                    <a:pt x="16" y="776"/>
                  </a:moveTo>
                  <a:lnTo>
                    <a:pt x="16" y="888"/>
                  </a:lnTo>
                  <a:cubicBezTo>
                    <a:pt x="16" y="892"/>
                    <a:pt x="13" y="896"/>
                    <a:pt x="8" y="896"/>
                  </a:cubicBezTo>
                  <a:cubicBezTo>
                    <a:pt x="4" y="896"/>
                    <a:pt x="0" y="892"/>
                    <a:pt x="0" y="888"/>
                  </a:cubicBezTo>
                  <a:lnTo>
                    <a:pt x="0" y="776"/>
                  </a:lnTo>
                  <a:cubicBezTo>
                    <a:pt x="0" y="771"/>
                    <a:pt x="4" y="768"/>
                    <a:pt x="8" y="768"/>
                  </a:cubicBezTo>
                  <a:cubicBezTo>
                    <a:pt x="13" y="768"/>
                    <a:pt x="16" y="771"/>
                    <a:pt x="16" y="776"/>
                  </a:cubicBezTo>
                  <a:close/>
                  <a:moveTo>
                    <a:pt x="16" y="968"/>
                  </a:moveTo>
                  <a:lnTo>
                    <a:pt x="16" y="1080"/>
                  </a:lnTo>
                  <a:cubicBezTo>
                    <a:pt x="16" y="1084"/>
                    <a:pt x="13" y="1088"/>
                    <a:pt x="8" y="1088"/>
                  </a:cubicBezTo>
                  <a:cubicBezTo>
                    <a:pt x="4" y="1088"/>
                    <a:pt x="0" y="1084"/>
                    <a:pt x="0" y="1080"/>
                  </a:cubicBezTo>
                  <a:lnTo>
                    <a:pt x="0" y="968"/>
                  </a:lnTo>
                  <a:cubicBezTo>
                    <a:pt x="0" y="963"/>
                    <a:pt x="4" y="960"/>
                    <a:pt x="8" y="960"/>
                  </a:cubicBezTo>
                  <a:cubicBezTo>
                    <a:pt x="13" y="960"/>
                    <a:pt x="16" y="963"/>
                    <a:pt x="16" y="968"/>
                  </a:cubicBezTo>
                  <a:close/>
                  <a:moveTo>
                    <a:pt x="16" y="1160"/>
                  </a:moveTo>
                  <a:lnTo>
                    <a:pt x="16" y="1272"/>
                  </a:lnTo>
                  <a:cubicBezTo>
                    <a:pt x="16" y="1276"/>
                    <a:pt x="13" y="1280"/>
                    <a:pt x="8" y="1280"/>
                  </a:cubicBezTo>
                  <a:cubicBezTo>
                    <a:pt x="4" y="1280"/>
                    <a:pt x="0" y="1276"/>
                    <a:pt x="0" y="1272"/>
                  </a:cubicBezTo>
                  <a:lnTo>
                    <a:pt x="0" y="1160"/>
                  </a:lnTo>
                  <a:cubicBezTo>
                    <a:pt x="0" y="1155"/>
                    <a:pt x="4" y="1152"/>
                    <a:pt x="8" y="1152"/>
                  </a:cubicBezTo>
                  <a:cubicBezTo>
                    <a:pt x="13" y="1152"/>
                    <a:pt x="16" y="1155"/>
                    <a:pt x="16" y="1160"/>
                  </a:cubicBezTo>
                  <a:close/>
                  <a:moveTo>
                    <a:pt x="16" y="1352"/>
                  </a:moveTo>
                  <a:lnTo>
                    <a:pt x="16" y="1464"/>
                  </a:lnTo>
                  <a:cubicBezTo>
                    <a:pt x="16" y="1468"/>
                    <a:pt x="13" y="1472"/>
                    <a:pt x="8" y="1472"/>
                  </a:cubicBezTo>
                  <a:cubicBezTo>
                    <a:pt x="4" y="1472"/>
                    <a:pt x="0" y="1468"/>
                    <a:pt x="0" y="1464"/>
                  </a:cubicBezTo>
                  <a:lnTo>
                    <a:pt x="0" y="1352"/>
                  </a:lnTo>
                  <a:cubicBezTo>
                    <a:pt x="0" y="1347"/>
                    <a:pt x="4" y="1344"/>
                    <a:pt x="8" y="1344"/>
                  </a:cubicBezTo>
                  <a:cubicBezTo>
                    <a:pt x="13" y="1344"/>
                    <a:pt x="16" y="1347"/>
                    <a:pt x="16" y="1352"/>
                  </a:cubicBezTo>
                  <a:close/>
                  <a:moveTo>
                    <a:pt x="16" y="1544"/>
                  </a:moveTo>
                  <a:lnTo>
                    <a:pt x="16" y="1656"/>
                  </a:lnTo>
                  <a:cubicBezTo>
                    <a:pt x="16" y="1660"/>
                    <a:pt x="13" y="1664"/>
                    <a:pt x="8" y="1664"/>
                  </a:cubicBezTo>
                  <a:cubicBezTo>
                    <a:pt x="4" y="1664"/>
                    <a:pt x="0" y="1660"/>
                    <a:pt x="0" y="1656"/>
                  </a:cubicBezTo>
                  <a:lnTo>
                    <a:pt x="0" y="1544"/>
                  </a:lnTo>
                  <a:cubicBezTo>
                    <a:pt x="0" y="1539"/>
                    <a:pt x="4" y="1536"/>
                    <a:pt x="8" y="1536"/>
                  </a:cubicBezTo>
                  <a:cubicBezTo>
                    <a:pt x="13" y="1536"/>
                    <a:pt x="16" y="1539"/>
                    <a:pt x="16" y="1544"/>
                  </a:cubicBezTo>
                  <a:close/>
                  <a:moveTo>
                    <a:pt x="16" y="1736"/>
                  </a:moveTo>
                  <a:lnTo>
                    <a:pt x="16" y="1848"/>
                  </a:lnTo>
                  <a:cubicBezTo>
                    <a:pt x="16" y="1852"/>
                    <a:pt x="13" y="1856"/>
                    <a:pt x="8" y="1856"/>
                  </a:cubicBezTo>
                  <a:cubicBezTo>
                    <a:pt x="4" y="1856"/>
                    <a:pt x="0" y="1852"/>
                    <a:pt x="0" y="1848"/>
                  </a:cubicBezTo>
                  <a:lnTo>
                    <a:pt x="0" y="1736"/>
                  </a:lnTo>
                  <a:cubicBezTo>
                    <a:pt x="0" y="1731"/>
                    <a:pt x="4" y="1728"/>
                    <a:pt x="8" y="1728"/>
                  </a:cubicBezTo>
                  <a:cubicBezTo>
                    <a:pt x="13" y="1728"/>
                    <a:pt x="16" y="1731"/>
                    <a:pt x="16" y="1736"/>
                  </a:cubicBezTo>
                  <a:close/>
                  <a:moveTo>
                    <a:pt x="16" y="1928"/>
                  </a:moveTo>
                  <a:lnTo>
                    <a:pt x="16" y="2040"/>
                  </a:lnTo>
                  <a:cubicBezTo>
                    <a:pt x="16" y="2044"/>
                    <a:pt x="13" y="2048"/>
                    <a:pt x="8" y="2048"/>
                  </a:cubicBezTo>
                  <a:cubicBezTo>
                    <a:pt x="4" y="2048"/>
                    <a:pt x="0" y="2044"/>
                    <a:pt x="0" y="2040"/>
                  </a:cubicBezTo>
                  <a:lnTo>
                    <a:pt x="0" y="1928"/>
                  </a:lnTo>
                  <a:cubicBezTo>
                    <a:pt x="0" y="1923"/>
                    <a:pt x="4" y="1920"/>
                    <a:pt x="8" y="1920"/>
                  </a:cubicBezTo>
                  <a:cubicBezTo>
                    <a:pt x="13" y="1920"/>
                    <a:pt x="16" y="1923"/>
                    <a:pt x="16" y="1928"/>
                  </a:cubicBezTo>
                  <a:close/>
                  <a:moveTo>
                    <a:pt x="16" y="2120"/>
                  </a:moveTo>
                  <a:lnTo>
                    <a:pt x="16" y="2232"/>
                  </a:lnTo>
                  <a:cubicBezTo>
                    <a:pt x="16" y="2236"/>
                    <a:pt x="13" y="2240"/>
                    <a:pt x="8" y="2240"/>
                  </a:cubicBezTo>
                  <a:cubicBezTo>
                    <a:pt x="4" y="2240"/>
                    <a:pt x="0" y="2236"/>
                    <a:pt x="0" y="2232"/>
                  </a:cubicBezTo>
                  <a:lnTo>
                    <a:pt x="0" y="2120"/>
                  </a:lnTo>
                  <a:cubicBezTo>
                    <a:pt x="0" y="2115"/>
                    <a:pt x="4" y="2112"/>
                    <a:pt x="8" y="2112"/>
                  </a:cubicBezTo>
                  <a:cubicBezTo>
                    <a:pt x="13" y="2112"/>
                    <a:pt x="16" y="2115"/>
                    <a:pt x="16" y="2120"/>
                  </a:cubicBezTo>
                  <a:close/>
                  <a:moveTo>
                    <a:pt x="16" y="2312"/>
                  </a:moveTo>
                  <a:lnTo>
                    <a:pt x="16" y="2424"/>
                  </a:lnTo>
                  <a:cubicBezTo>
                    <a:pt x="16" y="2428"/>
                    <a:pt x="13" y="2432"/>
                    <a:pt x="8" y="2432"/>
                  </a:cubicBezTo>
                  <a:cubicBezTo>
                    <a:pt x="4" y="2432"/>
                    <a:pt x="0" y="2428"/>
                    <a:pt x="0" y="2424"/>
                  </a:cubicBezTo>
                  <a:lnTo>
                    <a:pt x="0" y="2312"/>
                  </a:lnTo>
                  <a:cubicBezTo>
                    <a:pt x="0" y="2307"/>
                    <a:pt x="4" y="2304"/>
                    <a:pt x="8" y="2304"/>
                  </a:cubicBezTo>
                  <a:cubicBezTo>
                    <a:pt x="13" y="2304"/>
                    <a:pt x="16" y="2307"/>
                    <a:pt x="16" y="2312"/>
                  </a:cubicBezTo>
                  <a:close/>
                  <a:moveTo>
                    <a:pt x="16" y="2504"/>
                  </a:moveTo>
                  <a:lnTo>
                    <a:pt x="16" y="2616"/>
                  </a:lnTo>
                  <a:cubicBezTo>
                    <a:pt x="16" y="2620"/>
                    <a:pt x="13" y="2624"/>
                    <a:pt x="8" y="2624"/>
                  </a:cubicBezTo>
                  <a:cubicBezTo>
                    <a:pt x="4" y="2624"/>
                    <a:pt x="0" y="2620"/>
                    <a:pt x="0" y="2616"/>
                  </a:cubicBezTo>
                  <a:lnTo>
                    <a:pt x="0" y="2504"/>
                  </a:lnTo>
                  <a:cubicBezTo>
                    <a:pt x="0" y="2499"/>
                    <a:pt x="4" y="2496"/>
                    <a:pt x="8" y="2496"/>
                  </a:cubicBezTo>
                  <a:cubicBezTo>
                    <a:pt x="13" y="2496"/>
                    <a:pt x="16" y="2499"/>
                    <a:pt x="16" y="2504"/>
                  </a:cubicBezTo>
                  <a:close/>
                  <a:moveTo>
                    <a:pt x="16" y="2696"/>
                  </a:moveTo>
                  <a:lnTo>
                    <a:pt x="16" y="2808"/>
                  </a:lnTo>
                  <a:cubicBezTo>
                    <a:pt x="16" y="2812"/>
                    <a:pt x="13" y="2816"/>
                    <a:pt x="8" y="2816"/>
                  </a:cubicBezTo>
                  <a:cubicBezTo>
                    <a:pt x="4" y="2816"/>
                    <a:pt x="0" y="2812"/>
                    <a:pt x="0" y="2808"/>
                  </a:cubicBezTo>
                  <a:lnTo>
                    <a:pt x="0" y="2696"/>
                  </a:lnTo>
                  <a:cubicBezTo>
                    <a:pt x="0" y="2691"/>
                    <a:pt x="4" y="2688"/>
                    <a:pt x="8" y="2688"/>
                  </a:cubicBezTo>
                  <a:cubicBezTo>
                    <a:pt x="13" y="2688"/>
                    <a:pt x="16" y="2691"/>
                    <a:pt x="16" y="2696"/>
                  </a:cubicBezTo>
                  <a:close/>
                  <a:moveTo>
                    <a:pt x="16" y="2888"/>
                  </a:moveTo>
                  <a:lnTo>
                    <a:pt x="16" y="3000"/>
                  </a:lnTo>
                  <a:cubicBezTo>
                    <a:pt x="16" y="3004"/>
                    <a:pt x="13" y="3008"/>
                    <a:pt x="8" y="3008"/>
                  </a:cubicBezTo>
                  <a:cubicBezTo>
                    <a:pt x="4" y="3008"/>
                    <a:pt x="0" y="3004"/>
                    <a:pt x="0" y="3000"/>
                  </a:cubicBezTo>
                  <a:lnTo>
                    <a:pt x="0" y="2888"/>
                  </a:lnTo>
                  <a:cubicBezTo>
                    <a:pt x="0" y="2883"/>
                    <a:pt x="4" y="2880"/>
                    <a:pt x="8" y="2880"/>
                  </a:cubicBezTo>
                  <a:cubicBezTo>
                    <a:pt x="13" y="2880"/>
                    <a:pt x="16" y="2883"/>
                    <a:pt x="16" y="2888"/>
                  </a:cubicBezTo>
                  <a:close/>
                  <a:moveTo>
                    <a:pt x="16" y="3080"/>
                  </a:moveTo>
                  <a:lnTo>
                    <a:pt x="16" y="3192"/>
                  </a:lnTo>
                  <a:cubicBezTo>
                    <a:pt x="16" y="3196"/>
                    <a:pt x="13" y="3200"/>
                    <a:pt x="8" y="3200"/>
                  </a:cubicBezTo>
                  <a:cubicBezTo>
                    <a:pt x="4" y="3200"/>
                    <a:pt x="0" y="3196"/>
                    <a:pt x="0" y="3192"/>
                  </a:cubicBezTo>
                  <a:lnTo>
                    <a:pt x="0" y="3080"/>
                  </a:lnTo>
                  <a:cubicBezTo>
                    <a:pt x="0" y="3075"/>
                    <a:pt x="4" y="3072"/>
                    <a:pt x="8" y="3072"/>
                  </a:cubicBezTo>
                  <a:cubicBezTo>
                    <a:pt x="13" y="3072"/>
                    <a:pt x="16" y="3075"/>
                    <a:pt x="16" y="3080"/>
                  </a:cubicBezTo>
                  <a:close/>
                  <a:moveTo>
                    <a:pt x="16" y="3272"/>
                  </a:moveTo>
                  <a:lnTo>
                    <a:pt x="16" y="3384"/>
                  </a:lnTo>
                  <a:cubicBezTo>
                    <a:pt x="16" y="3388"/>
                    <a:pt x="13" y="3392"/>
                    <a:pt x="8" y="3392"/>
                  </a:cubicBezTo>
                  <a:cubicBezTo>
                    <a:pt x="4" y="3392"/>
                    <a:pt x="0" y="3388"/>
                    <a:pt x="0" y="3384"/>
                  </a:cubicBezTo>
                  <a:lnTo>
                    <a:pt x="0" y="3272"/>
                  </a:lnTo>
                  <a:cubicBezTo>
                    <a:pt x="0" y="3267"/>
                    <a:pt x="4" y="3264"/>
                    <a:pt x="8" y="3264"/>
                  </a:cubicBezTo>
                  <a:cubicBezTo>
                    <a:pt x="13" y="3264"/>
                    <a:pt x="16" y="3267"/>
                    <a:pt x="16" y="3272"/>
                  </a:cubicBezTo>
                  <a:close/>
                  <a:moveTo>
                    <a:pt x="16" y="3464"/>
                  </a:moveTo>
                  <a:lnTo>
                    <a:pt x="16" y="3576"/>
                  </a:lnTo>
                  <a:cubicBezTo>
                    <a:pt x="16" y="3580"/>
                    <a:pt x="13" y="3584"/>
                    <a:pt x="8" y="3584"/>
                  </a:cubicBezTo>
                  <a:cubicBezTo>
                    <a:pt x="4" y="3584"/>
                    <a:pt x="0" y="3580"/>
                    <a:pt x="0" y="3576"/>
                  </a:cubicBezTo>
                  <a:lnTo>
                    <a:pt x="0" y="3464"/>
                  </a:lnTo>
                  <a:cubicBezTo>
                    <a:pt x="0" y="3459"/>
                    <a:pt x="4" y="3456"/>
                    <a:pt x="8" y="3456"/>
                  </a:cubicBezTo>
                  <a:cubicBezTo>
                    <a:pt x="13" y="3456"/>
                    <a:pt x="16" y="3459"/>
                    <a:pt x="16" y="3464"/>
                  </a:cubicBez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13160" y="2509920"/>
              <a:ext cx="6480" cy="1555920"/>
            </a:xfrm>
            <a:custGeom>
              <a:avLst/>
              <a:gdLst/>
              <a:ahLst/>
              <a:rect l="l" t="t" r="r" b="b"/>
              <a:pathLst>
                <a:path w="16" h="3584">
                  <a:moveTo>
                    <a:pt x="16" y="8"/>
                  </a:moveTo>
                  <a:lnTo>
                    <a:pt x="16" y="120"/>
                  </a:lnTo>
                  <a:cubicBezTo>
                    <a:pt x="16" y="124"/>
                    <a:pt x="13" y="128"/>
                    <a:pt x="8" y="128"/>
                  </a:cubicBezTo>
                  <a:cubicBezTo>
                    <a:pt x="4" y="128"/>
                    <a:pt x="0" y="124"/>
                    <a:pt x="0" y="120"/>
                  </a:cubicBezTo>
                  <a:lnTo>
                    <a:pt x="0" y="8"/>
                  </a:lnTo>
                  <a:cubicBezTo>
                    <a:pt x="0" y="3"/>
                    <a:pt x="4" y="0"/>
                    <a:pt x="8" y="0"/>
                  </a:cubicBezTo>
                  <a:cubicBezTo>
                    <a:pt x="13" y="0"/>
                    <a:pt x="16" y="3"/>
                    <a:pt x="16" y="8"/>
                  </a:cubicBezTo>
                  <a:close/>
                  <a:moveTo>
                    <a:pt x="16" y="200"/>
                  </a:moveTo>
                  <a:lnTo>
                    <a:pt x="16" y="312"/>
                  </a:lnTo>
                  <a:cubicBezTo>
                    <a:pt x="16" y="316"/>
                    <a:pt x="13" y="320"/>
                    <a:pt x="8" y="320"/>
                  </a:cubicBezTo>
                  <a:cubicBezTo>
                    <a:pt x="4" y="320"/>
                    <a:pt x="0" y="316"/>
                    <a:pt x="0" y="312"/>
                  </a:cubicBezTo>
                  <a:lnTo>
                    <a:pt x="0" y="200"/>
                  </a:lnTo>
                  <a:cubicBezTo>
                    <a:pt x="0" y="195"/>
                    <a:pt x="4" y="192"/>
                    <a:pt x="8" y="192"/>
                  </a:cubicBezTo>
                  <a:cubicBezTo>
                    <a:pt x="13" y="192"/>
                    <a:pt x="16" y="195"/>
                    <a:pt x="16" y="200"/>
                  </a:cubicBezTo>
                  <a:close/>
                  <a:moveTo>
                    <a:pt x="16" y="392"/>
                  </a:moveTo>
                  <a:lnTo>
                    <a:pt x="16" y="504"/>
                  </a:lnTo>
                  <a:cubicBezTo>
                    <a:pt x="16" y="508"/>
                    <a:pt x="13" y="512"/>
                    <a:pt x="8" y="512"/>
                  </a:cubicBezTo>
                  <a:cubicBezTo>
                    <a:pt x="4" y="512"/>
                    <a:pt x="0" y="508"/>
                    <a:pt x="0" y="504"/>
                  </a:cubicBezTo>
                  <a:lnTo>
                    <a:pt x="0" y="392"/>
                  </a:lnTo>
                  <a:cubicBezTo>
                    <a:pt x="0" y="387"/>
                    <a:pt x="4" y="384"/>
                    <a:pt x="8" y="384"/>
                  </a:cubicBezTo>
                  <a:cubicBezTo>
                    <a:pt x="13" y="384"/>
                    <a:pt x="16" y="387"/>
                    <a:pt x="16" y="392"/>
                  </a:cubicBezTo>
                  <a:close/>
                  <a:moveTo>
                    <a:pt x="16" y="584"/>
                  </a:moveTo>
                  <a:lnTo>
                    <a:pt x="16" y="696"/>
                  </a:lnTo>
                  <a:cubicBezTo>
                    <a:pt x="16" y="700"/>
                    <a:pt x="13" y="704"/>
                    <a:pt x="8" y="704"/>
                  </a:cubicBezTo>
                  <a:cubicBezTo>
                    <a:pt x="4" y="704"/>
                    <a:pt x="0" y="700"/>
                    <a:pt x="0" y="696"/>
                  </a:cubicBezTo>
                  <a:lnTo>
                    <a:pt x="0" y="584"/>
                  </a:lnTo>
                  <a:cubicBezTo>
                    <a:pt x="0" y="579"/>
                    <a:pt x="4" y="576"/>
                    <a:pt x="8" y="576"/>
                  </a:cubicBezTo>
                  <a:cubicBezTo>
                    <a:pt x="13" y="576"/>
                    <a:pt x="16" y="579"/>
                    <a:pt x="16" y="584"/>
                  </a:cubicBezTo>
                  <a:close/>
                  <a:moveTo>
                    <a:pt x="16" y="776"/>
                  </a:moveTo>
                  <a:lnTo>
                    <a:pt x="16" y="888"/>
                  </a:lnTo>
                  <a:cubicBezTo>
                    <a:pt x="16" y="892"/>
                    <a:pt x="13" y="896"/>
                    <a:pt x="8" y="896"/>
                  </a:cubicBezTo>
                  <a:cubicBezTo>
                    <a:pt x="4" y="896"/>
                    <a:pt x="0" y="892"/>
                    <a:pt x="0" y="888"/>
                  </a:cubicBezTo>
                  <a:lnTo>
                    <a:pt x="0" y="776"/>
                  </a:lnTo>
                  <a:cubicBezTo>
                    <a:pt x="0" y="771"/>
                    <a:pt x="4" y="768"/>
                    <a:pt x="8" y="768"/>
                  </a:cubicBezTo>
                  <a:cubicBezTo>
                    <a:pt x="13" y="768"/>
                    <a:pt x="16" y="771"/>
                    <a:pt x="16" y="776"/>
                  </a:cubicBezTo>
                  <a:close/>
                  <a:moveTo>
                    <a:pt x="16" y="968"/>
                  </a:moveTo>
                  <a:lnTo>
                    <a:pt x="16" y="1080"/>
                  </a:lnTo>
                  <a:cubicBezTo>
                    <a:pt x="16" y="1084"/>
                    <a:pt x="13" y="1088"/>
                    <a:pt x="8" y="1088"/>
                  </a:cubicBezTo>
                  <a:cubicBezTo>
                    <a:pt x="4" y="1088"/>
                    <a:pt x="0" y="1084"/>
                    <a:pt x="0" y="1080"/>
                  </a:cubicBezTo>
                  <a:lnTo>
                    <a:pt x="0" y="968"/>
                  </a:lnTo>
                  <a:cubicBezTo>
                    <a:pt x="0" y="963"/>
                    <a:pt x="4" y="960"/>
                    <a:pt x="8" y="960"/>
                  </a:cubicBezTo>
                  <a:cubicBezTo>
                    <a:pt x="13" y="960"/>
                    <a:pt x="16" y="963"/>
                    <a:pt x="16" y="968"/>
                  </a:cubicBezTo>
                  <a:close/>
                  <a:moveTo>
                    <a:pt x="16" y="1160"/>
                  </a:moveTo>
                  <a:lnTo>
                    <a:pt x="16" y="1272"/>
                  </a:lnTo>
                  <a:cubicBezTo>
                    <a:pt x="16" y="1276"/>
                    <a:pt x="13" y="1280"/>
                    <a:pt x="8" y="1280"/>
                  </a:cubicBezTo>
                  <a:cubicBezTo>
                    <a:pt x="4" y="1280"/>
                    <a:pt x="0" y="1276"/>
                    <a:pt x="0" y="1272"/>
                  </a:cubicBezTo>
                  <a:lnTo>
                    <a:pt x="0" y="1160"/>
                  </a:lnTo>
                  <a:cubicBezTo>
                    <a:pt x="0" y="1155"/>
                    <a:pt x="4" y="1152"/>
                    <a:pt x="8" y="1152"/>
                  </a:cubicBezTo>
                  <a:cubicBezTo>
                    <a:pt x="13" y="1152"/>
                    <a:pt x="16" y="1155"/>
                    <a:pt x="16" y="1160"/>
                  </a:cubicBezTo>
                  <a:close/>
                  <a:moveTo>
                    <a:pt x="16" y="1352"/>
                  </a:moveTo>
                  <a:lnTo>
                    <a:pt x="16" y="1464"/>
                  </a:lnTo>
                  <a:cubicBezTo>
                    <a:pt x="16" y="1468"/>
                    <a:pt x="13" y="1472"/>
                    <a:pt x="8" y="1472"/>
                  </a:cubicBezTo>
                  <a:cubicBezTo>
                    <a:pt x="4" y="1472"/>
                    <a:pt x="0" y="1468"/>
                    <a:pt x="0" y="1464"/>
                  </a:cubicBezTo>
                  <a:lnTo>
                    <a:pt x="0" y="1352"/>
                  </a:lnTo>
                  <a:cubicBezTo>
                    <a:pt x="0" y="1347"/>
                    <a:pt x="4" y="1344"/>
                    <a:pt x="8" y="1344"/>
                  </a:cubicBezTo>
                  <a:cubicBezTo>
                    <a:pt x="13" y="1344"/>
                    <a:pt x="16" y="1347"/>
                    <a:pt x="16" y="1352"/>
                  </a:cubicBezTo>
                  <a:close/>
                  <a:moveTo>
                    <a:pt x="16" y="1544"/>
                  </a:moveTo>
                  <a:lnTo>
                    <a:pt x="16" y="1656"/>
                  </a:lnTo>
                  <a:cubicBezTo>
                    <a:pt x="16" y="1660"/>
                    <a:pt x="13" y="1664"/>
                    <a:pt x="8" y="1664"/>
                  </a:cubicBezTo>
                  <a:cubicBezTo>
                    <a:pt x="4" y="1664"/>
                    <a:pt x="0" y="1660"/>
                    <a:pt x="0" y="1656"/>
                  </a:cubicBezTo>
                  <a:lnTo>
                    <a:pt x="0" y="1544"/>
                  </a:lnTo>
                  <a:cubicBezTo>
                    <a:pt x="0" y="1539"/>
                    <a:pt x="4" y="1536"/>
                    <a:pt x="8" y="1536"/>
                  </a:cubicBezTo>
                  <a:cubicBezTo>
                    <a:pt x="13" y="1536"/>
                    <a:pt x="16" y="1539"/>
                    <a:pt x="16" y="1544"/>
                  </a:cubicBezTo>
                  <a:close/>
                  <a:moveTo>
                    <a:pt x="16" y="1736"/>
                  </a:moveTo>
                  <a:lnTo>
                    <a:pt x="16" y="1848"/>
                  </a:lnTo>
                  <a:cubicBezTo>
                    <a:pt x="16" y="1852"/>
                    <a:pt x="13" y="1856"/>
                    <a:pt x="8" y="1856"/>
                  </a:cubicBezTo>
                  <a:cubicBezTo>
                    <a:pt x="4" y="1856"/>
                    <a:pt x="0" y="1852"/>
                    <a:pt x="0" y="1848"/>
                  </a:cubicBezTo>
                  <a:lnTo>
                    <a:pt x="0" y="1736"/>
                  </a:lnTo>
                  <a:cubicBezTo>
                    <a:pt x="0" y="1731"/>
                    <a:pt x="4" y="1728"/>
                    <a:pt x="8" y="1728"/>
                  </a:cubicBezTo>
                  <a:cubicBezTo>
                    <a:pt x="13" y="1728"/>
                    <a:pt x="16" y="1731"/>
                    <a:pt x="16" y="1736"/>
                  </a:cubicBezTo>
                  <a:close/>
                  <a:moveTo>
                    <a:pt x="16" y="1928"/>
                  </a:moveTo>
                  <a:lnTo>
                    <a:pt x="16" y="2040"/>
                  </a:lnTo>
                  <a:cubicBezTo>
                    <a:pt x="16" y="2044"/>
                    <a:pt x="13" y="2048"/>
                    <a:pt x="8" y="2048"/>
                  </a:cubicBezTo>
                  <a:cubicBezTo>
                    <a:pt x="4" y="2048"/>
                    <a:pt x="0" y="2044"/>
                    <a:pt x="0" y="2040"/>
                  </a:cubicBezTo>
                  <a:lnTo>
                    <a:pt x="0" y="1928"/>
                  </a:lnTo>
                  <a:cubicBezTo>
                    <a:pt x="0" y="1923"/>
                    <a:pt x="4" y="1920"/>
                    <a:pt x="8" y="1920"/>
                  </a:cubicBezTo>
                  <a:cubicBezTo>
                    <a:pt x="13" y="1920"/>
                    <a:pt x="16" y="1923"/>
                    <a:pt x="16" y="1928"/>
                  </a:cubicBezTo>
                  <a:close/>
                  <a:moveTo>
                    <a:pt x="16" y="2120"/>
                  </a:moveTo>
                  <a:lnTo>
                    <a:pt x="16" y="2232"/>
                  </a:lnTo>
                  <a:cubicBezTo>
                    <a:pt x="16" y="2236"/>
                    <a:pt x="13" y="2240"/>
                    <a:pt x="8" y="2240"/>
                  </a:cubicBezTo>
                  <a:cubicBezTo>
                    <a:pt x="4" y="2240"/>
                    <a:pt x="0" y="2236"/>
                    <a:pt x="0" y="2232"/>
                  </a:cubicBezTo>
                  <a:lnTo>
                    <a:pt x="0" y="2120"/>
                  </a:lnTo>
                  <a:cubicBezTo>
                    <a:pt x="0" y="2115"/>
                    <a:pt x="4" y="2112"/>
                    <a:pt x="8" y="2112"/>
                  </a:cubicBezTo>
                  <a:cubicBezTo>
                    <a:pt x="13" y="2112"/>
                    <a:pt x="16" y="2115"/>
                    <a:pt x="16" y="2120"/>
                  </a:cubicBezTo>
                  <a:close/>
                  <a:moveTo>
                    <a:pt x="16" y="2312"/>
                  </a:moveTo>
                  <a:lnTo>
                    <a:pt x="16" y="2424"/>
                  </a:lnTo>
                  <a:cubicBezTo>
                    <a:pt x="16" y="2428"/>
                    <a:pt x="13" y="2432"/>
                    <a:pt x="8" y="2432"/>
                  </a:cubicBezTo>
                  <a:cubicBezTo>
                    <a:pt x="4" y="2432"/>
                    <a:pt x="0" y="2428"/>
                    <a:pt x="0" y="2424"/>
                  </a:cubicBezTo>
                  <a:lnTo>
                    <a:pt x="0" y="2312"/>
                  </a:lnTo>
                  <a:cubicBezTo>
                    <a:pt x="0" y="2307"/>
                    <a:pt x="4" y="2304"/>
                    <a:pt x="8" y="2304"/>
                  </a:cubicBezTo>
                  <a:cubicBezTo>
                    <a:pt x="13" y="2304"/>
                    <a:pt x="16" y="2307"/>
                    <a:pt x="16" y="2312"/>
                  </a:cubicBezTo>
                  <a:close/>
                  <a:moveTo>
                    <a:pt x="16" y="2504"/>
                  </a:moveTo>
                  <a:lnTo>
                    <a:pt x="16" y="2616"/>
                  </a:lnTo>
                  <a:cubicBezTo>
                    <a:pt x="16" y="2620"/>
                    <a:pt x="13" y="2624"/>
                    <a:pt x="8" y="2624"/>
                  </a:cubicBezTo>
                  <a:cubicBezTo>
                    <a:pt x="4" y="2624"/>
                    <a:pt x="0" y="2620"/>
                    <a:pt x="0" y="2616"/>
                  </a:cubicBezTo>
                  <a:lnTo>
                    <a:pt x="0" y="2504"/>
                  </a:lnTo>
                  <a:cubicBezTo>
                    <a:pt x="0" y="2499"/>
                    <a:pt x="4" y="2496"/>
                    <a:pt x="8" y="2496"/>
                  </a:cubicBezTo>
                  <a:cubicBezTo>
                    <a:pt x="13" y="2496"/>
                    <a:pt x="16" y="2499"/>
                    <a:pt x="16" y="2504"/>
                  </a:cubicBezTo>
                  <a:close/>
                  <a:moveTo>
                    <a:pt x="16" y="2696"/>
                  </a:moveTo>
                  <a:lnTo>
                    <a:pt x="16" y="2808"/>
                  </a:lnTo>
                  <a:cubicBezTo>
                    <a:pt x="16" y="2812"/>
                    <a:pt x="13" y="2816"/>
                    <a:pt x="8" y="2816"/>
                  </a:cubicBezTo>
                  <a:cubicBezTo>
                    <a:pt x="4" y="2816"/>
                    <a:pt x="0" y="2812"/>
                    <a:pt x="0" y="2808"/>
                  </a:cubicBezTo>
                  <a:lnTo>
                    <a:pt x="0" y="2696"/>
                  </a:lnTo>
                  <a:cubicBezTo>
                    <a:pt x="0" y="2691"/>
                    <a:pt x="4" y="2688"/>
                    <a:pt x="8" y="2688"/>
                  </a:cubicBezTo>
                  <a:cubicBezTo>
                    <a:pt x="13" y="2688"/>
                    <a:pt x="16" y="2691"/>
                    <a:pt x="16" y="2696"/>
                  </a:cubicBezTo>
                  <a:close/>
                  <a:moveTo>
                    <a:pt x="16" y="2888"/>
                  </a:moveTo>
                  <a:lnTo>
                    <a:pt x="16" y="3000"/>
                  </a:lnTo>
                  <a:cubicBezTo>
                    <a:pt x="16" y="3004"/>
                    <a:pt x="13" y="3008"/>
                    <a:pt x="8" y="3008"/>
                  </a:cubicBezTo>
                  <a:cubicBezTo>
                    <a:pt x="4" y="3008"/>
                    <a:pt x="0" y="3004"/>
                    <a:pt x="0" y="3000"/>
                  </a:cubicBezTo>
                  <a:lnTo>
                    <a:pt x="0" y="2888"/>
                  </a:lnTo>
                  <a:cubicBezTo>
                    <a:pt x="0" y="2883"/>
                    <a:pt x="4" y="2880"/>
                    <a:pt x="8" y="2880"/>
                  </a:cubicBezTo>
                  <a:cubicBezTo>
                    <a:pt x="13" y="2880"/>
                    <a:pt x="16" y="2883"/>
                    <a:pt x="16" y="2888"/>
                  </a:cubicBezTo>
                  <a:close/>
                  <a:moveTo>
                    <a:pt x="16" y="3080"/>
                  </a:moveTo>
                  <a:lnTo>
                    <a:pt x="16" y="3192"/>
                  </a:lnTo>
                  <a:cubicBezTo>
                    <a:pt x="16" y="3196"/>
                    <a:pt x="13" y="3200"/>
                    <a:pt x="8" y="3200"/>
                  </a:cubicBezTo>
                  <a:cubicBezTo>
                    <a:pt x="4" y="3200"/>
                    <a:pt x="0" y="3196"/>
                    <a:pt x="0" y="3192"/>
                  </a:cubicBezTo>
                  <a:lnTo>
                    <a:pt x="0" y="3080"/>
                  </a:lnTo>
                  <a:cubicBezTo>
                    <a:pt x="0" y="3075"/>
                    <a:pt x="4" y="3072"/>
                    <a:pt x="8" y="3072"/>
                  </a:cubicBezTo>
                  <a:cubicBezTo>
                    <a:pt x="13" y="3072"/>
                    <a:pt x="16" y="3075"/>
                    <a:pt x="16" y="3080"/>
                  </a:cubicBezTo>
                  <a:close/>
                  <a:moveTo>
                    <a:pt x="16" y="3272"/>
                  </a:moveTo>
                  <a:lnTo>
                    <a:pt x="16" y="3384"/>
                  </a:lnTo>
                  <a:cubicBezTo>
                    <a:pt x="16" y="3388"/>
                    <a:pt x="13" y="3392"/>
                    <a:pt x="8" y="3392"/>
                  </a:cubicBezTo>
                  <a:cubicBezTo>
                    <a:pt x="4" y="3392"/>
                    <a:pt x="0" y="3388"/>
                    <a:pt x="0" y="3384"/>
                  </a:cubicBezTo>
                  <a:lnTo>
                    <a:pt x="0" y="3272"/>
                  </a:lnTo>
                  <a:cubicBezTo>
                    <a:pt x="0" y="3267"/>
                    <a:pt x="4" y="3264"/>
                    <a:pt x="8" y="3264"/>
                  </a:cubicBezTo>
                  <a:cubicBezTo>
                    <a:pt x="13" y="3264"/>
                    <a:pt x="16" y="3267"/>
                    <a:pt x="16" y="3272"/>
                  </a:cubicBezTo>
                  <a:close/>
                  <a:moveTo>
                    <a:pt x="16" y="3464"/>
                  </a:moveTo>
                  <a:lnTo>
                    <a:pt x="16" y="3576"/>
                  </a:lnTo>
                  <a:cubicBezTo>
                    <a:pt x="16" y="3580"/>
                    <a:pt x="13" y="3584"/>
                    <a:pt x="8" y="3584"/>
                  </a:cubicBezTo>
                  <a:cubicBezTo>
                    <a:pt x="4" y="3584"/>
                    <a:pt x="0" y="3580"/>
                    <a:pt x="0" y="3576"/>
                  </a:cubicBezTo>
                  <a:lnTo>
                    <a:pt x="0" y="3464"/>
                  </a:lnTo>
                  <a:cubicBezTo>
                    <a:pt x="0" y="3459"/>
                    <a:pt x="4" y="3456"/>
                    <a:pt x="8" y="3456"/>
                  </a:cubicBezTo>
                  <a:cubicBezTo>
                    <a:pt x="13" y="3456"/>
                    <a:pt x="16" y="3459"/>
                    <a:pt x="16" y="3464"/>
                  </a:cubicBezTo>
                  <a:close/>
                </a:path>
              </a:pathLst>
            </a:custGeom>
            <a:solidFill>
              <a:srgbClr val="969696"/>
            </a:solidFill>
            <a:ln w="6480">
              <a:solidFill>
                <a:srgbClr val="0000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62560" y="2509920"/>
              <a:ext cx="7920" cy="1555920"/>
            </a:xfrm>
            <a:custGeom>
              <a:avLst/>
              <a:gdLst/>
              <a:ahLst/>
              <a:rect l="l" t="t" r="r" b="b"/>
              <a:pathLst>
                <a:path w="16" h="3584">
                  <a:moveTo>
                    <a:pt x="16" y="8"/>
                  </a:moveTo>
                  <a:lnTo>
                    <a:pt x="16" y="120"/>
                  </a:lnTo>
                  <a:cubicBezTo>
                    <a:pt x="16" y="124"/>
                    <a:pt x="13" y="128"/>
                    <a:pt x="8" y="128"/>
                  </a:cubicBezTo>
                  <a:cubicBezTo>
                    <a:pt x="4" y="128"/>
                    <a:pt x="0" y="124"/>
                    <a:pt x="0" y="120"/>
                  </a:cubicBezTo>
                  <a:lnTo>
                    <a:pt x="0" y="8"/>
                  </a:lnTo>
                  <a:cubicBezTo>
                    <a:pt x="0" y="3"/>
                    <a:pt x="4" y="0"/>
                    <a:pt x="8" y="0"/>
                  </a:cubicBezTo>
                  <a:cubicBezTo>
                    <a:pt x="13" y="0"/>
                    <a:pt x="16" y="3"/>
                    <a:pt x="16" y="8"/>
                  </a:cubicBezTo>
                  <a:close/>
                  <a:moveTo>
                    <a:pt x="16" y="200"/>
                  </a:moveTo>
                  <a:lnTo>
                    <a:pt x="16" y="312"/>
                  </a:lnTo>
                  <a:cubicBezTo>
                    <a:pt x="16" y="316"/>
                    <a:pt x="13" y="320"/>
                    <a:pt x="8" y="320"/>
                  </a:cubicBezTo>
                  <a:cubicBezTo>
                    <a:pt x="4" y="320"/>
                    <a:pt x="0" y="316"/>
                    <a:pt x="0" y="312"/>
                  </a:cubicBezTo>
                  <a:lnTo>
                    <a:pt x="0" y="200"/>
                  </a:lnTo>
                  <a:cubicBezTo>
                    <a:pt x="0" y="195"/>
                    <a:pt x="4" y="192"/>
                    <a:pt x="8" y="192"/>
                  </a:cubicBezTo>
                  <a:cubicBezTo>
                    <a:pt x="13" y="192"/>
                    <a:pt x="16" y="195"/>
                    <a:pt x="16" y="200"/>
                  </a:cubicBezTo>
                  <a:close/>
                  <a:moveTo>
                    <a:pt x="16" y="392"/>
                  </a:moveTo>
                  <a:lnTo>
                    <a:pt x="16" y="504"/>
                  </a:lnTo>
                  <a:cubicBezTo>
                    <a:pt x="16" y="508"/>
                    <a:pt x="13" y="512"/>
                    <a:pt x="8" y="512"/>
                  </a:cubicBezTo>
                  <a:cubicBezTo>
                    <a:pt x="4" y="512"/>
                    <a:pt x="0" y="508"/>
                    <a:pt x="0" y="504"/>
                  </a:cubicBezTo>
                  <a:lnTo>
                    <a:pt x="0" y="392"/>
                  </a:lnTo>
                  <a:cubicBezTo>
                    <a:pt x="0" y="387"/>
                    <a:pt x="4" y="384"/>
                    <a:pt x="8" y="384"/>
                  </a:cubicBezTo>
                  <a:cubicBezTo>
                    <a:pt x="13" y="384"/>
                    <a:pt x="16" y="387"/>
                    <a:pt x="16" y="392"/>
                  </a:cubicBezTo>
                  <a:close/>
                  <a:moveTo>
                    <a:pt x="16" y="584"/>
                  </a:moveTo>
                  <a:lnTo>
                    <a:pt x="16" y="696"/>
                  </a:lnTo>
                  <a:cubicBezTo>
                    <a:pt x="16" y="700"/>
                    <a:pt x="13" y="704"/>
                    <a:pt x="8" y="704"/>
                  </a:cubicBezTo>
                  <a:cubicBezTo>
                    <a:pt x="4" y="704"/>
                    <a:pt x="0" y="700"/>
                    <a:pt x="0" y="696"/>
                  </a:cubicBezTo>
                  <a:lnTo>
                    <a:pt x="0" y="584"/>
                  </a:lnTo>
                  <a:cubicBezTo>
                    <a:pt x="0" y="579"/>
                    <a:pt x="4" y="576"/>
                    <a:pt x="8" y="576"/>
                  </a:cubicBezTo>
                  <a:cubicBezTo>
                    <a:pt x="13" y="576"/>
                    <a:pt x="16" y="579"/>
                    <a:pt x="16" y="584"/>
                  </a:cubicBezTo>
                  <a:close/>
                  <a:moveTo>
                    <a:pt x="16" y="776"/>
                  </a:moveTo>
                  <a:lnTo>
                    <a:pt x="16" y="888"/>
                  </a:lnTo>
                  <a:cubicBezTo>
                    <a:pt x="16" y="892"/>
                    <a:pt x="13" y="896"/>
                    <a:pt x="8" y="896"/>
                  </a:cubicBezTo>
                  <a:cubicBezTo>
                    <a:pt x="4" y="896"/>
                    <a:pt x="0" y="892"/>
                    <a:pt x="0" y="888"/>
                  </a:cubicBezTo>
                  <a:lnTo>
                    <a:pt x="0" y="776"/>
                  </a:lnTo>
                  <a:cubicBezTo>
                    <a:pt x="0" y="771"/>
                    <a:pt x="4" y="768"/>
                    <a:pt x="8" y="768"/>
                  </a:cubicBezTo>
                  <a:cubicBezTo>
                    <a:pt x="13" y="768"/>
                    <a:pt x="16" y="771"/>
                    <a:pt x="16" y="776"/>
                  </a:cubicBezTo>
                  <a:close/>
                  <a:moveTo>
                    <a:pt x="16" y="968"/>
                  </a:moveTo>
                  <a:lnTo>
                    <a:pt x="16" y="1080"/>
                  </a:lnTo>
                  <a:cubicBezTo>
                    <a:pt x="16" y="1084"/>
                    <a:pt x="13" y="1088"/>
                    <a:pt x="8" y="1088"/>
                  </a:cubicBezTo>
                  <a:cubicBezTo>
                    <a:pt x="4" y="1088"/>
                    <a:pt x="0" y="1084"/>
                    <a:pt x="0" y="1080"/>
                  </a:cubicBezTo>
                  <a:lnTo>
                    <a:pt x="0" y="968"/>
                  </a:lnTo>
                  <a:cubicBezTo>
                    <a:pt x="0" y="963"/>
                    <a:pt x="4" y="960"/>
                    <a:pt x="8" y="960"/>
                  </a:cubicBezTo>
                  <a:cubicBezTo>
                    <a:pt x="13" y="960"/>
                    <a:pt x="16" y="963"/>
                    <a:pt x="16" y="968"/>
                  </a:cubicBezTo>
                  <a:close/>
                  <a:moveTo>
                    <a:pt x="16" y="1160"/>
                  </a:moveTo>
                  <a:lnTo>
                    <a:pt x="16" y="1272"/>
                  </a:lnTo>
                  <a:cubicBezTo>
                    <a:pt x="16" y="1276"/>
                    <a:pt x="13" y="1280"/>
                    <a:pt x="8" y="1280"/>
                  </a:cubicBezTo>
                  <a:cubicBezTo>
                    <a:pt x="4" y="1280"/>
                    <a:pt x="0" y="1276"/>
                    <a:pt x="0" y="1272"/>
                  </a:cubicBezTo>
                  <a:lnTo>
                    <a:pt x="0" y="1160"/>
                  </a:lnTo>
                  <a:cubicBezTo>
                    <a:pt x="0" y="1155"/>
                    <a:pt x="4" y="1152"/>
                    <a:pt x="8" y="1152"/>
                  </a:cubicBezTo>
                  <a:cubicBezTo>
                    <a:pt x="13" y="1152"/>
                    <a:pt x="16" y="1155"/>
                    <a:pt x="16" y="1160"/>
                  </a:cubicBezTo>
                  <a:close/>
                  <a:moveTo>
                    <a:pt x="16" y="1352"/>
                  </a:moveTo>
                  <a:lnTo>
                    <a:pt x="16" y="1464"/>
                  </a:lnTo>
                  <a:cubicBezTo>
                    <a:pt x="16" y="1468"/>
                    <a:pt x="13" y="1472"/>
                    <a:pt x="8" y="1472"/>
                  </a:cubicBezTo>
                  <a:cubicBezTo>
                    <a:pt x="4" y="1472"/>
                    <a:pt x="0" y="1468"/>
                    <a:pt x="0" y="1464"/>
                  </a:cubicBezTo>
                  <a:lnTo>
                    <a:pt x="0" y="1352"/>
                  </a:lnTo>
                  <a:cubicBezTo>
                    <a:pt x="0" y="1347"/>
                    <a:pt x="4" y="1344"/>
                    <a:pt x="8" y="1344"/>
                  </a:cubicBezTo>
                  <a:cubicBezTo>
                    <a:pt x="13" y="1344"/>
                    <a:pt x="16" y="1347"/>
                    <a:pt x="16" y="1352"/>
                  </a:cubicBezTo>
                  <a:close/>
                  <a:moveTo>
                    <a:pt x="16" y="1544"/>
                  </a:moveTo>
                  <a:lnTo>
                    <a:pt x="16" y="1656"/>
                  </a:lnTo>
                  <a:cubicBezTo>
                    <a:pt x="16" y="1660"/>
                    <a:pt x="13" y="1664"/>
                    <a:pt x="8" y="1664"/>
                  </a:cubicBezTo>
                  <a:cubicBezTo>
                    <a:pt x="4" y="1664"/>
                    <a:pt x="0" y="1660"/>
                    <a:pt x="0" y="1656"/>
                  </a:cubicBezTo>
                  <a:lnTo>
                    <a:pt x="0" y="1544"/>
                  </a:lnTo>
                  <a:cubicBezTo>
                    <a:pt x="0" y="1539"/>
                    <a:pt x="4" y="1536"/>
                    <a:pt x="8" y="1536"/>
                  </a:cubicBezTo>
                  <a:cubicBezTo>
                    <a:pt x="13" y="1536"/>
                    <a:pt x="16" y="1539"/>
                    <a:pt x="16" y="1544"/>
                  </a:cubicBezTo>
                  <a:close/>
                  <a:moveTo>
                    <a:pt x="16" y="1736"/>
                  </a:moveTo>
                  <a:lnTo>
                    <a:pt x="16" y="1848"/>
                  </a:lnTo>
                  <a:cubicBezTo>
                    <a:pt x="16" y="1852"/>
                    <a:pt x="13" y="1856"/>
                    <a:pt x="8" y="1856"/>
                  </a:cubicBezTo>
                  <a:cubicBezTo>
                    <a:pt x="4" y="1856"/>
                    <a:pt x="0" y="1852"/>
                    <a:pt x="0" y="1848"/>
                  </a:cubicBezTo>
                  <a:lnTo>
                    <a:pt x="0" y="1736"/>
                  </a:lnTo>
                  <a:cubicBezTo>
                    <a:pt x="0" y="1731"/>
                    <a:pt x="4" y="1728"/>
                    <a:pt x="8" y="1728"/>
                  </a:cubicBezTo>
                  <a:cubicBezTo>
                    <a:pt x="13" y="1728"/>
                    <a:pt x="16" y="1731"/>
                    <a:pt x="16" y="1736"/>
                  </a:cubicBezTo>
                  <a:close/>
                  <a:moveTo>
                    <a:pt x="16" y="1928"/>
                  </a:moveTo>
                  <a:lnTo>
                    <a:pt x="16" y="2040"/>
                  </a:lnTo>
                  <a:cubicBezTo>
                    <a:pt x="16" y="2044"/>
                    <a:pt x="13" y="2048"/>
                    <a:pt x="8" y="2048"/>
                  </a:cubicBezTo>
                  <a:cubicBezTo>
                    <a:pt x="4" y="2048"/>
                    <a:pt x="0" y="2044"/>
                    <a:pt x="0" y="2040"/>
                  </a:cubicBezTo>
                  <a:lnTo>
                    <a:pt x="0" y="1928"/>
                  </a:lnTo>
                  <a:cubicBezTo>
                    <a:pt x="0" y="1923"/>
                    <a:pt x="4" y="1920"/>
                    <a:pt x="8" y="1920"/>
                  </a:cubicBezTo>
                  <a:cubicBezTo>
                    <a:pt x="13" y="1920"/>
                    <a:pt x="16" y="1923"/>
                    <a:pt x="16" y="1928"/>
                  </a:cubicBezTo>
                  <a:close/>
                  <a:moveTo>
                    <a:pt x="16" y="2120"/>
                  </a:moveTo>
                  <a:lnTo>
                    <a:pt x="16" y="2232"/>
                  </a:lnTo>
                  <a:cubicBezTo>
                    <a:pt x="16" y="2236"/>
                    <a:pt x="13" y="2240"/>
                    <a:pt x="8" y="2240"/>
                  </a:cubicBezTo>
                  <a:cubicBezTo>
                    <a:pt x="4" y="2240"/>
                    <a:pt x="0" y="2236"/>
                    <a:pt x="0" y="2232"/>
                  </a:cubicBezTo>
                  <a:lnTo>
                    <a:pt x="0" y="2120"/>
                  </a:lnTo>
                  <a:cubicBezTo>
                    <a:pt x="0" y="2115"/>
                    <a:pt x="4" y="2112"/>
                    <a:pt x="8" y="2112"/>
                  </a:cubicBezTo>
                  <a:cubicBezTo>
                    <a:pt x="13" y="2112"/>
                    <a:pt x="16" y="2115"/>
                    <a:pt x="16" y="2120"/>
                  </a:cubicBezTo>
                  <a:close/>
                  <a:moveTo>
                    <a:pt x="16" y="2312"/>
                  </a:moveTo>
                  <a:lnTo>
                    <a:pt x="16" y="2424"/>
                  </a:lnTo>
                  <a:cubicBezTo>
                    <a:pt x="16" y="2428"/>
                    <a:pt x="13" y="2432"/>
                    <a:pt x="8" y="2432"/>
                  </a:cubicBezTo>
                  <a:cubicBezTo>
                    <a:pt x="4" y="2432"/>
                    <a:pt x="0" y="2428"/>
                    <a:pt x="0" y="2424"/>
                  </a:cubicBezTo>
                  <a:lnTo>
                    <a:pt x="0" y="2312"/>
                  </a:lnTo>
                  <a:cubicBezTo>
                    <a:pt x="0" y="2307"/>
                    <a:pt x="4" y="2304"/>
                    <a:pt x="8" y="2304"/>
                  </a:cubicBezTo>
                  <a:cubicBezTo>
                    <a:pt x="13" y="2304"/>
                    <a:pt x="16" y="2307"/>
                    <a:pt x="16" y="2312"/>
                  </a:cubicBezTo>
                  <a:close/>
                  <a:moveTo>
                    <a:pt x="16" y="2504"/>
                  </a:moveTo>
                  <a:lnTo>
                    <a:pt x="16" y="2616"/>
                  </a:lnTo>
                  <a:cubicBezTo>
                    <a:pt x="16" y="2620"/>
                    <a:pt x="13" y="2624"/>
                    <a:pt x="8" y="2624"/>
                  </a:cubicBezTo>
                  <a:cubicBezTo>
                    <a:pt x="4" y="2624"/>
                    <a:pt x="0" y="2620"/>
                    <a:pt x="0" y="2616"/>
                  </a:cubicBezTo>
                  <a:lnTo>
                    <a:pt x="0" y="2504"/>
                  </a:lnTo>
                  <a:cubicBezTo>
                    <a:pt x="0" y="2499"/>
                    <a:pt x="4" y="2496"/>
                    <a:pt x="8" y="2496"/>
                  </a:cubicBezTo>
                  <a:cubicBezTo>
                    <a:pt x="13" y="2496"/>
                    <a:pt x="16" y="2499"/>
                    <a:pt x="16" y="2504"/>
                  </a:cubicBezTo>
                  <a:close/>
                  <a:moveTo>
                    <a:pt x="16" y="2696"/>
                  </a:moveTo>
                  <a:lnTo>
                    <a:pt x="16" y="2808"/>
                  </a:lnTo>
                  <a:cubicBezTo>
                    <a:pt x="16" y="2812"/>
                    <a:pt x="13" y="2816"/>
                    <a:pt x="8" y="2816"/>
                  </a:cubicBezTo>
                  <a:cubicBezTo>
                    <a:pt x="4" y="2816"/>
                    <a:pt x="0" y="2812"/>
                    <a:pt x="0" y="2808"/>
                  </a:cubicBezTo>
                  <a:lnTo>
                    <a:pt x="0" y="2696"/>
                  </a:lnTo>
                  <a:cubicBezTo>
                    <a:pt x="0" y="2691"/>
                    <a:pt x="4" y="2688"/>
                    <a:pt x="8" y="2688"/>
                  </a:cubicBezTo>
                  <a:cubicBezTo>
                    <a:pt x="13" y="2688"/>
                    <a:pt x="16" y="2691"/>
                    <a:pt x="16" y="2696"/>
                  </a:cubicBezTo>
                  <a:close/>
                  <a:moveTo>
                    <a:pt x="16" y="2888"/>
                  </a:moveTo>
                  <a:lnTo>
                    <a:pt x="16" y="3000"/>
                  </a:lnTo>
                  <a:cubicBezTo>
                    <a:pt x="16" y="3004"/>
                    <a:pt x="13" y="3008"/>
                    <a:pt x="8" y="3008"/>
                  </a:cubicBezTo>
                  <a:cubicBezTo>
                    <a:pt x="4" y="3008"/>
                    <a:pt x="0" y="3004"/>
                    <a:pt x="0" y="3000"/>
                  </a:cubicBezTo>
                  <a:lnTo>
                    <a:pt x="0" y="2888"/>
                  </a:lnTo>
                  <a:cubicBezTo>
                    <a:pt x="0" y="2883"/>
                    <a:pt x="4" y="2880"/>
                    <a:pt x="8" y="2880"/>
                  </a:cubicBezTo>
                  <a:cubicBezTo>
                    <a:pt x="13" y="2880"/>
                    <a:pt x="16" y="2883"/>
                    <a:pt x="16" y="2888"/>
                  </a:cubicBezTo>
                  <a:close/>
                  <a:moveTo>
                    <a:pt x="16" y="3080"/>
                  </a:moveTo>
                  <a:lnTo>
                    <a:pt x="16" y="3192"/>
                  </a:lnTo>
                  <a:cubicBezTo>
                    <a:pt x="16" y="3196"/>
                    <a:pt x="13" y="3200"/>
                    <a:pt x="8" y="3200"/>
                  </a:cubicBezTo>
                  <a:cubicBezTo>
                    <a:pt x="4" y="3200"/>
                    <a:pt x="0" y="3196"/>
                    <a:pt x="0" y="3192"/>
                  </a:cubicBezTo>
                  <a:lnTo>
                    <a:pt x="0" y="3080"/>
                  </a:lnTo>
                  <a:cubicBezTo>
                    <a:pt x="0" y="3075"/>
                    <a:pt x="4" y="3072"/>
                    <a:pt x="8" y="3072"/>
                  </a:cubicBezTo>
                  <a:cubicBezTo>
                    <a:pt x="13" y="3072"/>
                    <a:pt x="16" y="3075"/>
                    <a:pt x="16" y="3080"/>
                  </a:cubicBezTo>
                  <a:close/>
                  <a:moveTo>
                    <a:pt x="16" y="3272"/>
                  </a:moveTo>
                  <a:lnTo>
                    <a:pt x="16" y="3384"/>
                  </a:lnTo>
                  <a:cubicBezTo>
                    <a:pt x="16" y="3388"/>
                    <a:pt x="13" y="3392"/>
                    <a:pt x="8" y="3392"/>
                  </a:cubicBezTo>
                  <a:cubicBezTo>
                    <a:pt x="4" y="3392"/>
                    <a:pt x="0" y="3388"/>
                    <a:pt x="0" y="3384"/>
                  </a:cubicBezTo>
                  <a:lnTo>
                    <a:pt x="0" y="3272"/>
                  </a:lnTo>
                  <a:cubicBezTo>
                    <a:pt x="0" y="3267"/>
                    <a:pt x="4" y="3264"/>
                    <a:pt x="8" y="3264"/>
                  </a:cubicBezTo>
                  <a:cubicBezTo>
                    <a:pt x="13" y="3264"/>
                    <a:pt x="16" y="3267"/>
                    <a:pt x="16" y="3272"/>
                  </a:cubicBezTo>
                  <a:close/>
                  <a:moveTo>
                    <a:pt x="16" y="3464"/>
                  </a:moveTo>
                  <a:lnTo>
                    <a:pt x="16" y="3576"/>
                  </a:lnTo>
                  <a:cubicBezTo>
                    <a:pt x="16" y="3580"/>
                    <a:pt x="13" y="3584"/>
                    <a:pt x="8" y="3584"/>
                  </a:cubicBezTo>
                  <a:cubicBezTo>
                    <a:pt x="4" y="3584"/>
                    <a:pt x="0" y="3580"/>
                    <a:pt x="0" y="3576"/>
                  </a:cubicBezTo>
                  <a:lnTo>
                    <a:pt x="0" y="3464"/>
                  </a:lnTo>
                  <a:cubicBezTo>
                    <a:pt x="0" y="3459"/>
                    <a:pt x="4" y="3456"/>
                    <a:pt x="8" y="3456"/>
                  </a:cubicBezTo>
                  <a:cubicBezTo>
                    <a:pt x="13" y="3456"/>
                    <a:pt x="16" y="3459"/>
                    <a:pt x="16" y="3464"/>
                  </a:cubicBezTo>
                  <a:close/>
                </a:path>
              </a:pathLst>
            </a:custGeom>
            <a:solidFill>
              <a:srgbClr val="0000ff"/>
            </a:solidFill>
            <a:ln w="6480">
              <a:solidFill>
                <a:srgbClr val="0000c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22360" y="41562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78240" y="41562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24400" y="41562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44920" y="3524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94320" y="3517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41920" y="3517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07160" y="3517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EEEA-9010-4D59-85FB-D83F66E7BF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Multi Level Cell (MLC)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/O split vs. Page spli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duran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Wear-levelin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28720" y="364500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I/O Split meth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2771640" y="4363920"/>
            <a:ext cx="474480" cy="594000"/>
            <a:chOff x="2771640" y="4363920"/>
            <a:chExt cx="474480" cy="594000"/>
          </a:xfrm>
        </p:grpSpPr>
        <p:sp>
          <p:nvSpPr>
            <p:cNvPr id="115" name="Line 6"/>
            <p:cNvSpPr/>
            <p:nvPr/>
          </p:nvSpPr>
          <p:spPr>
            <a:xfrm>
              <a:off x="3246120" y="4363920"/>
              <a:ext cx="0" cy="19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 flipH="1">
              <a:off x="3136680" y="4560840"/>
              <a:ext cx="10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3135240" y="4562640"/>
              <a:ext cx="0" cy="19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 flipH="1">
              <a:off x="3136680" y="4759200"/>
              <a:ext cx="10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Line 10"/>
            <p:cNvSpPr/>
            <p:nvPr/>
          </p:nvSpPr>
          <p:spPr>
            <a:xfrm>
              <a:off x="3246120" y="4759200"/>
              <a:ext cx="0" cy="19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3063600" y="4562640"/>
              <a:ext cx="0" cy="19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2990520" y="4562640"/>
              <a:ext cx="0" cy="19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Line 13"/>
            <p:cNvSpPr/>
            <p:nvPr/>
          </p:nvSpPr>
          <p:spPr>
            <a:xfrm flipH="1">
              <a:off x="2771640" y="4659480"/>
              <a:ext cx="218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3" name="Line 14"/>
          <p:cNvSpPr/>
          <p:nvPr/>
        </p:nvSpPr>
        <p:spPr>
          <a:xfrm>
            <a:off x="4427640" y="3500280"/>
            <a:ext cx="0" cy="259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4572000" y="364500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age Split meth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19280" y="5229360"/>
          <a:ext cx="2158920" cy="245880"/>
        </p:xfrm>
        <a:graphic>
          <a:graphicData uri="http://schemas.openxmlformats.org/drawingml/2006/table">
            <a:tbl>
              <a:tblPr/>
              <a:tblGrid>
                <a:gridCol w="863280"/>
                <a:gridCol w="648000"/>
                <a:gridCol w="647640"/>
              </a:tblGrid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age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it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it x+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Group 28"/>
          <p:cNvGrpSpPr/>
          <p:nvPr/>
        </p:nvGrpSpPr>
        <p:grpSpPr>
          <a:xfrm>
            <a:off x="6372360" y="4406760"/>
            <a:ext cx="474480" cy="594000"/>
            <a:chOff x="6372360" y="4406760"/>
            <a:chExt cx="474480" cy="594000"/>
          </a:xfrm>
        </p:grpSpPr>
        <p:sp>
          <p:nvSpPr>
            <p:cNvPr id="127" name="Line 29"/>
            <p:cNvSpPr/>
            <p:nvPr/>
          </p:nvSpPr>
          <p:spPr>
            <a:xfrm>
              <a:off x="6846840" y="4406760"/>
              <a:ext cx="0" cy="19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Line 30"/>
            <p:cNvSpPr/>
            <p:nvPr/>
          </p:nvSpPr>
          <p:spPr>
            <a:xfrm flipH="1">
              <a:off x="6737400" y="4603680"/>
              <a:ext cx="109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Line 31"/>
            <p:cNvSpPr/>
            <p:nvPr/>
          </p:nvSpPr>
          <p:spPr>
            <a:xfrm>
              <a:off x="6735960" y="4605480"/>
              <a:ext cx="0" cy="19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Line 32"/>
            <p:cNvSpPr/>
            <p:nvPr/>
          </p:nvSpPr>
          <p:spPr>
            <a:xfrm flipH="1">
              <a:off x="6737400" y="4802040"/>
              <a:ext cx="10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Line 33"/>
            <p:cNvSpPr/>
            <p:nvPr/>
          </p:nvSpPr>
          <p:spPr>
            <a:xfrm>
              <a:off x="6846840" y="4802040"/>
              <a:ext cx="0" cy="19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Line 34"/>
            <p:cNvSpPr/>
            <p:nvPr/>
          </p:nvSpPr>
          <p:spPr>
            <a:xfrm>
              <a:off x="6664320" y="4605480"/>
              <a:ext cx="0" cy="19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Line 35"/>
            <p:cNvSpPr/>
            <p:nvPr/>
          </p:nvSpPr>
          <p:spPr>
            <a:xfrm>
              <a:off x="6591240" y="4605480"/>
              <a:ext cx="0" cy="19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Line 36"/>
            <p:cNvSpPr/>
            <p:nvPr/>
          </p:nvSpPr>
          <p:spPr>
            <a:xfrm flipH="1">
              <a:off x="6372360" y="4702320"/>
              <a:ext cx="218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135" name=""/>
          <p:cNvGraphicFramePr/>
          <p:nvPr/>
        </p:nvGraphicFramePr>
        <p:xfrm>
          <a:off x="5148360" y="5197320"/>
          <a:ext cx="1944720" cy="492120"/>
        </p:xfrm>
        <a:graphic>
          <a:graphicData uri="http://schemas.openxmlformats.org/drawingml/2006/table">
            <a:tbl>
              <a:tblPr/>
              <a:tblGrid>
                <a:gridCol w="1387440"/>
                <a:gridCol w="557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age n*m    (LS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it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age n*m+l (MS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it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039D-3C27-4BB8-A365-44E2C6D92D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urrent statu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Why there’s no software using MLC directly in linux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JFFS2 doesn’t support the MLC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YAFFS MLC NAND handling is under wa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UBIFS???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LogFS???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Another approach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Embedded MMC (eMMC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rebuchet MS"/>
              </a:rPr>
              <a:t>Controller embedded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rebuchet MS"/>
              </a:rPr>
              <a:t>Samsung MoviNAND, Micron ManagedNAND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Solid State Drive (SSD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What’s the issue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3"/>
          <a:stretch/>
        </p:blipFill>
        <p:spPr>
          <a:xfrm>
            <a:off x="5364000" y="3281400"/>
            <a:ext cx="3743640" cy="288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31E1-DA1C-4089-9E8C-1AF70153D9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nown Issues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umber Of Program (NOP) 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Write the page only onc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t’s simple and already done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pare Are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MLC uses the more powerful ECC/EDC mechanism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It means it requires the more spare area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andle the paired page proble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 lot of solutions but patent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773E-3E8B-4D28-8F5D-5169BC39A4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OP 1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JFFS2 uses the NOP 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main area and OOB area for cleanmark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UBI uses MAX NOP 4 by the provided subpage_sf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E.g., subpage_sft = 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Sector write (4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Add the MTD_OOB_WRITEABLE bi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Clearing the MTD_OOB_WRITEABLE bit if the probed chip is MLC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rebuchet MS"/>
              </a:rPr>
              <a:t>Assign the subpage_sft to 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rebuchet MS"/>
              </a:rPr>
              <a:t>Disable the subpage writ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9123-161C-4FA9-AEDA-C06AFA3934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4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pare Area</a:t>
            </a:r>
            <a:endParaRPr b="1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579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2571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pare usages are dependent on each filesystem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SzPct val="2571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 worse case it can’t use the spare are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2295360"/>
          <a:ext cx="7991280" cy="2428920"/>
        </p:xfrm>
        <a:graphic>
          <a:graphicData uri="http://schemas.openxmlformats.org/drawingml/2006/table">
            <a:tbl>
              <a:tblPr/>
              <a:tblGrid>
                <a:gridCol w="911160"/>
                <a:gridCol w="1190520"/>
                <a:gridCol w="1425600"/>
                <a:gridCol w="1513080"/>
                <a:gridCol w="1439640"/>
                <a:gridCol w="1511280"/>
              </a:tblGrid>
              <a:tr h="803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JFF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YAFF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UBI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Log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</a:tr>
              <a:tr h="812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Spare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Required 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Cleanmar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Ta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Minimum: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Normal: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  <a:ea typeface="HY헤드라인M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D4FC-74DA-4F6F-8CD5-A58F7A0C4F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6:42:34Z</dcterms:created>
  <dc:creator>정경진</dc:creator>
  <dc:description/>
  <dc:language>en-US</dc:language>
  <cp:lastModifiedBy>PLanning</cp:lastModifiedBy>
  <dcterms:modified xsi:type="dcterms:W3CDTF">2008-05-01T20:16:34Z</dcterms:modified>
  <cp:revision>139</cp:revision>
  <dc:subject/>
  <dc:title>슬라이드 1</dc:title>
</cp:coreProperties>
</file>